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F863-EA0F-4A58-A292-E9AFB456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2A84-F70F-4CAF-8A30-04AB2D3E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1F8B-8621-4383-B8BC-04A4CFD11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9B75-E133-4F98-8EC1-438C8E41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12CF-6521-4955-86B1-86ABF5FC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FC34-C954-4391-BA26-22F0F2A4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1203-6085-40E9-9F20-A008B772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CCA2-5717-485C-BBB7-C700CAB4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59CB-3003-4D2C-8336-99393D75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0926-60B2-4D04-BE1F-7C8C83D0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EC88-538A-4568-9F3D-E0A1C865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DB7C-EA93-453A-8C56-1C40FC7B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49F7-2242-41F3-8048-40F80D9C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A65D-41C6-451D-9F3C-A3F35816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F1CC-6584-4689-B63B-F60F0F89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5B8D-5ADB-4C58-A336-1F522FE9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7895-6EF6-47E5-B7E5-987BEA44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A9D3-E1F6-42BE-A078-2FBADB30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63B5-882E-4004-84CE-44793F13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7FD5-D833-4D5B-82CE-F92A313C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A38B-F384-4867-AE86-BC93D03D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1ABD-D952-4364-90FE-422D7F11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744-C649-4D71-A7C6-EDE8B2B1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F96C-728F-4C16-B22E-3C5A59A2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0661-5ADF-4743-ACEA-6B51E26CA8B0}" type="datetime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4D99-2B7A-478A-840B-C86D27CEE501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440B-70DE-4889-8BA6-DF7CA5028575}" type="datetime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EC1D-60CB-4E84-9C2D-609DAEF5A6E8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7.xml"/><Relationship Id="rId3" Type="http://schemas.openxmlformats.org/officeDocument/2006/relationships/slide" Target="slide1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5.xml"/><Relationship Id="rId3" Type="http://schemas.openxmlformats.org/officeDocument/2006/relationships/slide" Target="slide20.xml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" Target="slide25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19320" y="762120"/>
            <a:ext cx="72388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Narrow"/>
              </a:rPr>
              <a:t>第</a:t>
            </a:r>
            <a:r>
              <a:rPr b="1" lang="zh-CN" sz="4400" spc="-1" strike="noStrike">
                <a:solidFill>
                  <a:srgbClr val="ffffff"/>
                </a:solidFill>
                <a:latin typeface="Arial Narrow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Arial Narrow"/>
              </a:rPr>
              <a:t>章 </a:t>
            </a:r>
            <a:r>
              <a:rPr b="1" lang="zh-CN" sz="4400" spc="-1" strike="noStrike">
                <a:solidFill>
                  <a:srgbClr val="ffffff"/>
                </a:solidFill>
                <a:latin typeface="Arial Narrow"/>
              </a:rPr>
              <a:t>VFP</a:t>
            </a:r>
            <a:r>
              <a:rPr b="1" lang="zh-CN" sz="4400" spc="-1" strike="noStrike">
                <a:solidFill>
                  <a:srgbClr val="ffffff"/>
                </a:solidFill>
                <a:latin typeface="Arial Narrow"/>
              </a:rPr>
              <a:t>的基本操作方法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2666880"/>
            <a:ext cx="213372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学习要点：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、变量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、表达式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、运算符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045-D51A-40D8-9765-2151AC55459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48D5E-78CD-4B3D-A0A9-B2F42E441D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1295280"/>
            <a:ext cx="845820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SAVE TO VAR1                                                            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将除系统内存变量以外所有内存变量保存到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VAR1.MEM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文件中。即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AA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BB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CC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NAME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A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SAVE TO VAR2 ALL LIKE  ?A*                               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将第一个字符是任意字符，第二个字符是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的所有内存变量保存到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VAR2.MEM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文件中。即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AA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NAME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SAVE TO VAR3 ALL EXCEPT  ?A*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                           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将自定义内存变量中第二个字符不是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的所有内存变量保存到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VAR2.MEM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文件中。即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BB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CC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00520" y="272880"/>
            <a:ext cx="242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SAVE</a:t>
            </a: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命令示例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6172200"/>
            <a:ext cx="1671840" cy="520560"/>
          </a:xfrm>
          <a:custGeom>
            <a:avLst/>
            <a:gdLst>
              <a:gd name="textAreaLeft" fmla="*/ 33480 w 1671840"/>
              <a:gd name="textAreaRight" fmla="*/ 1638360 w 167184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69338" h="21600">
                <a:moveTo>
                  <a:pt x="0" y="0"/>
                </a:moveTo>
                <a:lnTo>
                  <a:pt x="69338" y="0"/>
                </a:lnTo>
                <a:lnTo>
                  <a:pt x="69338" y="21600"/>
                </a:lnTo>
                <a:lnTo>
                  <a:pt x="0" y="21600"/>
                </a:lnTo>
                <a:close/>
              </a:path>
              <a:path fill="lightenLess" w="69338" h="21600">
                <a:moveTo>
                  <a:pt x="0" y="0"/>
                </a:moveTo>
                <a:lnTo>
                  <a:pt x="69338" y="0"/>
                </a:lnTo>
                <a:lnTo>
                  <a:pt x="67938" y="1400"/>
                </a:lnTo>
                <a:lnTo>
                  <a:pt x="1400" y="1400"/>
                </a:lnTo>
                <a:close/>
              </a:path>
              <a:path fill="darken" w="69338" h="21600">
                <a:moveTo>
                  <a:pt x="69338" y="0"/>
                </a:moveTo>
                <a:lnTo>
                  <a:pt x="69338" y="21600"/>
                </a:lnTo>
                <a:lnTo>
                  <a:pt x="67938" y="20200"/>
                </a:lnTo>
                <a:lnTo>
                  <a:pt x="67938" y="1400"/>
                </a:lnTo>
                <a:close/>
              </a:path>
              <a:path fill="darkenLess" w="69338" h="21600">
                <a:moveTo>
                  <a:pt x="69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38" y="20200"/>
                </a:lnTo>
                <a:close/>
              </a:path>
              <a:path fill="lighten" w="69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返 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EAC3-8AFB-42FB-83FB-7FEF60945AC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49C56-038A-4358-BAFF-20E769FBE1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4920" y="838080"/>
            <a:ext cx="8610480" cy="4318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87440" y="152280"/>
            <a:ext cx="30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2.1.4   </a:t>
            </a: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删除内存变量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04920" y="1011240"/>
            <a:ext cx="1447560" cy="459720"/>
            <a:chOff x="304920" y="1011240"/>
            <a:chExt cx="1447560" cy="459720"/>
          </a:xfrm>
        </p:grpSpPr>
        <p:sp>
          <p:nvSpPr>
            <p:cNvPr id="180" name=""/>
            <p:cNvSpPr/>
            <p:nvPr/>
          </p:nvSpPr>
          <p:spPr>
            <a:xfrm>
              <a:off x="913680" y="1011240"/>
              <a:ext cx="3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格式一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4920" y="1011240"/>
              <a:ext cx="144756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154600" y="1066680"/>
            <a:ext cx="31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RELEASE 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内存变量名表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9440" y="1565280"/>
            <a:ext cx="85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功能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删除指定的内存变量。当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内存变量名表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为多个变量时，变量名之间用“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,”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隔开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04920" y="2514600"/>
            <a:ext cx="1447560" cy="459720"/>
            <a:chOff x="304920" y="2514600"/>
            <a:chExt cx="1447560" cy="459720"/>
          </a:xfrm>
        </p:grpSpPr>
        <p:sp>
          <p:nvSpPr>
            <p:cNvPr id="185" name=""/>
            <p:cNvSpPr/>
            <p:nvPr/>
          </p:nvSpPr>
          <p:spPr>
            <a:xfrm>
              <a:off x="792000" y="251460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格式二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2514600"/>
              <a:ext cx="144756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139480" y="2514600"/>
            <a:ext cx="64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RELEASE ALL [LIKE/EXCEPT 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内存变量名框架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]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8954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功能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删除指定的内存变量。省略所有选择项时，则删除所有的内存变量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04920" y="3809880"/>
            <a:ext cx="1447560" cy="459720"/>
            <a:chOff x="304920" y="3809880"/>
            <a:chExt cx="1447560" cy="459720"/>
          </a:xfrm>
        </p:grpSpPr>
        <p:sp>
          <p:nvSpPr>
            <p:cNvPr id="190" name=""/>
            <p:cNvSpPr/>
            <p:nvPr/>
          </p:nvSpPr>
          <p:spPr>
            <a:xfrm>
              <a:off x="792000" y="38098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格式三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4920" y="3809880"/>
              <a:ext cx="144756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830960" y="3809880"/>
            <a:ext cx="26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imes New Roman"/>
              </a:rPr>
              <a:t>CLEAR MEMOR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4221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功能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删除当前内存中的所有内存变量。它和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RELEASE AL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的效果完全相同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38440" y="5302080"/>
            <a:ext cx="79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说明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参数与前述相同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BFA9-A718-4478-9222-BE4458F51FA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0C9B5-D69A-4254-9EE1-CF20D0ECD7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017160" y="244440"/>
            <a:ext cx="21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删除内存变量示例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73160" y="934920"/>
            <a:ext cx="336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在命令窗口中执行下列命令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RELEASE BB,CC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LIST MEMORY LIKE *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屏幕显示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97" name="bmpF060" descr=""/>
          <p:cNvPicPr/>
          <p:nvPr/>
        </p:nvPicPr>
        <p:blipFill>
          <a:blip r:embed="rId1"/>
          <a:stretch/>
        </p:blipFill>
        <p:spPr>
          <a:xfrm>
            <a:off x="3235320" y="2057400"/>
            <a:ext cx="5222880" cy="479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59000" y="2790720"/>
            <a:ext cx="355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在命令窗口中继续执行下列命令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RELEASE ALL LIKE ?A*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LIST MEMORY LIKE *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屏幕显示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99" name="bmp2112" descr=""/>
          <p:cNvPicPr/>
          <p:nvPr/>
        </p:nvPicPr>
        <p:blipFill>
          <a:blip r:embed="rId2"/>
          <a:stretch/>
        </p:blipFill>
        <p:spPr>
          <a:xfrm>
            <a:off x="4411800" y="4016520"/>
            <a:ext cx="2446200" cy="2505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354040" y="4543560"/>
            <a:ext cx="336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在命令窗口中继续执行下列命令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RELEASE AL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LIST MEMORY LIKE *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屏幕显示        （空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666880"/>
            <a:ext cx="1600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4495680"/>
            <a:ext cx="8686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6172200"/>
            <a:ext cx="1671840" cy="520560"/>
          </a:xfrm>
          <a:custGeom>
            <a:avLst/>
            <a:gdLst>
              <a:gd name="textAreaLeft" fmla="*/ 33480 w 1671840"/>
              <a:gd name="textAreaRight" fmla="*/ 1638360 w 167184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69338" h="21600">
                <a:moveTo>
                  <a:pt x="0" y="0"/>
                </a:moveTo>
                <a:lnTo>
                  <a:pt x="69338" y="0"/>
                </a:lnTo>
                <a:lnTo>
                  <a:pt x="69338" y="21600"/>
                </a:lnTo>
                <a:lnTo>
                  <a:pt x="0" y="21600"/>
                </a:lnTo>
                <a:close/>
              </a:path>
              <a:path fill="lightenLess" w="69338" h="21600">
                <a:moveTo>
                  <a:pt x="0" y="0"/>
                </a:moveTo>
                <a:lnTo>
                  <a:pt x="69338" y="0"/>
                </a:lnTo>
                <a:lnTo>
                  <a:pt x="67938" y="1400"/>
                </a:lnTo>
                <a:lnTo>
                  <a:pt x="1400" y="1400"/>
                </a:lnTo>
                <a:close/>
              </a:path>
              <a:path fill="darken" w="69338" h="21600">
                <a:moveTo>
                  <a:pt x="69338" y="0"/>
                </a:moveTo>
                <a:lnTo>
                  <a:pt x="69338" y="21600"/>
                </a:lnTo>
                <a:lnTo>
                  <a:pt x="67938" y="20200"/>
                </a:lnTo>
                <a:lnTo>
                  <a:pt x="67938" y="1400"/>
                </a:lnTo>
                <a:close/>
              </a:path>
              <a:path fill="darkenLess" w="69338" h="21600">
                <a:moveTo>
                  <a:pt x="69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38" y="20200"/>
                </a:lnTo>
                <a:close/>
              </a:path>
              <a:path fill="lighten" w="69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返 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6727-BC60-46F8-8AEC-310EAF4B8D06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B8E39-D3BD-4BB9-962E-1C1A21D9EE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167640" y="152280"/>
            <a:ext cx="31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2.1.5   </a:t>
            </a: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恢复内存变量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8760" y="879480"/>
            <a:ext cx="84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如果需要使用已保存的内存变量时，可用下述命令恢复 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1320840"/>
            <a:ext cx="8610480" cy="512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88760" y="131436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格式：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RESTORE FROM 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内存变量文件名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9360" y="1981080"/>
            <a:ext cx="8636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功能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它将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内存变量文件名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指定的内存变量文件中所保存的内存变量从磁盘读回内存重新使用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参数描述：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RESTORE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命令动词，表示执行恢复操作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FROM 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内存变量文件名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指定恢复内存变量的来源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[ADDITIVE]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：保留当前内存中的内存变量，将指定文件中的内存变量添加到当前内存变量之后。 若省略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ADDITIVE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选择项，则内存中已有的内存变量全部释放，将指定文件中的内存变量调入内存 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BF02-103A-498F-8012-062BD325708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E3557-1A30-4D8E-8DA2-23CFD6FF71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73240" y="15228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恢复内存变量示例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34720" y="677880"/>
            <a:ext cx="336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在命令窗口中继续执行下列命令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RESTORE FROM VAR1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LIST MEMORY LIKE *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屏幕显示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11" name="bmp11B0" descr=""/>
          <p:cNvPicPr/>
          <p:nvPr/>
        </p:nvPicPr>
        <p:blipFill>
          <a:blip r:embed="rId1"/>
          <a:stretch/>
        </p:blipFill>
        <p:spPr>
          <a:xfrm>
            <a:off x="3276720" y="1752480"/>
            <a:ext cx="5246640" cy="8226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134720" y="2562120"/>
            <a:ext cx="336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在命令窗口中继续执行下列命令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RESTORE FROM VAR2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LIST MEMORY LIKE *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屏幕显示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13" name="bmp3213" descr=""/>
          <p:cNvPicPr/>
          <p:nvPr/>
        </p:nvPicPr>
        <p:blipFill>
          <a:blip r:embed="rId2"/>
          <a:stretch/>
        </p:blipFill>
        <p:spPr>
          <a:xfrm>
            <a:off x="3222720" y="3657600"/>
            <a:ext cx="5235480" cy="3650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91560" y="4010040"/>
            <a:ext cx="502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在命令窗口中继续执行下列命令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RESTORE FROM VAR3 ADDITIVE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LIST MEMORY LIKE *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屏幕显示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15" name="bmp11B0" descr=""/>
          <p:cNvPicPr/>
          <p:nvPr/>
        </p:nvPicPr>
        <p:blipFill>
          <a:blip r:embed="rId3"/>
          <a:stretch/>
        </p:blipFill>
        <p:spPr>
          <a:xfrm>
            <a:off x="3276720" y="5121360"/>
            <a:ext cx="5246640" cy="8222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095880" y="6172200"/>
            <a:ext cx="1671840" cy="520560"/>
          </a:xfrm>
          <a:custGeom>
            <a:avLst/>
            <a:gdLst>
              <a:gd name="textAreaLeft" fmla="*/ 33480 w 1671840"/>
              <a:gd name="textAreaRight" fmla="*/ 1638360 w 167184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69338" h="21600">
                <a:moveTo>
                  <a:pt x="0" y="0"/>
                </a:moveTo>
                <a:lnTo>
                  <a:pt x="69338" y="0"/>
                </a:lnTo>
                <a:lnTo>
                  <a:pt x="69338" y="21600"/>
                </a:lnTo>
                <a:lnTo>
                  <a:pt x="0" y="21600"/>
                </a:lnTo>
                <a:close/>
              </a:path>
              <a:path fill="lightenLess" w="69338" h="21600">
                <a:moveTo>
                  <a:pt x="0" y="0"/>
                </a:moveTo>
                <a:lnTo>
                  <a:pt x="69338" y="0"/>
                </a:lnTo>
                <a:lnTo>
                  <a:pt x="67938" y="1400"/>
                </a:lnTo>
                <a:lnTo>
                  <a:pt x="1400" y="1400"/>
                </a:lnTo>
                <a:close/>
              </a:path>
              <a:path fill="darken" w="69338" h="21600">
                <a:moveTo>
                  <a:pt x="69338" y="0"/>
                </a:moveTo>
                <a:lnTo>
                  <a:pt x="69338" y="21600"/>
                </a:lnTo>
                <a:lnTo>
                  <a:pt x="67938" y="20200"/>
                </a:lnTo>
                <a:lnTo>
                  <a:pt x="67938" y="1400"/>
                </a:lnTo>
                <a:close/>
              </a:path>
              <a:path fill="darkenLess" w="69338" h="21600">
                <a:moveTo>
                  <a:pt x="69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38" y="20200"/>
                </a:lnTo>
                <a:close/>
              </a:path>
              <a:path fill="lighten" w="69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返 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FF19-926B-43EB-8218-C71852A7CF4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F8580-C5EA-4F60-9181-8C83C46989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581280" y="6858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2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数组</a:t>
            </a:r>
            <a:r>
              <a:rPr b="1" lang="zh-CN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8" name="">
            <a:hlinkClick r:id="rId2" action="ppaction://hlinksldjump"/>
          </p:cNvPr>
          <p:cNvSpPr/>
          <p:nvPr/>
        </p:nvSpPr>
        <p:spPr>
          <a:xfrm>
            <a:off x="2692440" y="2971800"/>
            <a:ext cx="4317840" cy="520560"/>
          </a:xfrm>
          <a:custGeom>
            <a:avLst/>
            <a:gdLst>
              <a:gd name="textAreaLeft" fmla="*/ 33480 w 4317840"/>
              <a:gd name="textAreaRight" fmla="*/ 4284360 w 431784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179055" h="21600">
                <a:moveTo>
                  <a:pt x="0" y="0"/>
                </a:moveTo>
                <a:lnTo>
                  <a:pt x="179055" y="0"/>
                </a:lnTo>
                <a:lnTo>
                  <a:pt x="179055" y="21600"/>
                </a:lnTo>
                <a:lnTo>
                  <a:pt x="0" y="21600"/>
                </a:lnTo>
                <a:close/>
              </a:path>
              <a:path fill="lightenLess" w="179055" h="21600">
                <a:moveTo>
                  <a:pt x="0" y="0"/>
                </a:moveTo>
                <a:lnTo>
                  <a:pt x="179055" y="0"/>
                </a:lnTo>
                <a:lnTo>
                  <a:pt x="177655" y="1400"/>
                </a:lnTo>
                <a:lnTo>
                  <a:pt x="1400" y="1400"/>
                </a:lnTo>
                <a:close/>
              </a:path>
              <a:path fill="darken" w="179055" h="21600">
                <a:moveTo>
                  <a:pt x="179055" y="0"/>
                </a:moveTo>
                <a:lnTo>
                  <a:pt x="179055" y="21600"/>
                </a:lnTo>
                <a:lnTo>
                  <a:pt x="177655" y="20200"/>
                </a:lnTo>
                <a:lnTo>
                  <a:pt x="177655" y="1400"/>
                </a:lnTo>
                <a:close/>
              </a:path>
              <a:path fill="darkenLess" w="179055" h="21600">
                <a:moveTo>
                  <a:pt x="179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655" y="20200"/>
                </a:lnTo>
                <a:close/>
              </a:path>
              <a:path fill="lighten" w="179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936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2.2.2  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定义数组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9" name="">
            <a:hlinkClick r:id="rId3" action="ppaction://hlinksldjump"/>
          </p:cNvPr>
          <p:cNvSpPr/>
          <p:nvPr/>
        </p:nvSpPr>
        <p:spPr>
          <a:xfrm>
            <a:off x="2687760" y="4114800"/>
            <a:ext cx="4317840" cy="520560"/>
          </a:xfrm>
          <a:custGeom>
            <a:avLst/>
            <a:gdLst>
              <a:gd name="textAreaLeft" fmla="*/ 33480 w 4317840"/>
              <a:gd name="textAreaRight" fmla="*/ 4284360 w 431784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179055" h="21600">
                <a:moveTo>
                  <a:pt x="0" y="0"/>
                </a:moveTo>
                <a:lnTo>
                  <a:pt x="179055" y="0"/>
                </a:lnTo>
                <a:lnTo>
                  <a:pt x="179055" y="21600"/>
                </a:lnTo>
                <a:lnTo>
                  <a:pt x="0" y="21600"/>
                </a:lnTo>
                <a:close/>
              </a:path>
              <a:path fill="lightenLess" w="179055" h="21600">
                <a:moveTo>
                  <a:pt x="0" y="0"/>
                </a:moveTo>
                <a:lnTo>
                  <a:pt x="179055" y="0"/>
                </a:lnTo>
                <a:lnTo>
                  <a:pt x="177655" y="1400"/>
                </a:lnTo>
                <a:lnTo>
                  <a:pt x="1400" y="1400"/>
                </a:lnTo>
                <a:close/>
              </a:path>
              <a:path fill="darken" w="179055" h="21600">
                <a:moveTo>
                  <a:pt x="179055" y="0"/>
                </a:moveTo>
                <a:lnTo>
                  <a:pt x="179055" y="21600"/>
                </a:lnTo>
                <a:lnTo>
                  <a:pt x="177655" y="20200"/>
                </a:lnTo>
                <a:lnTo>
                  <a:pt x="177655" y="1400"/>
                </a:lnTo>
                <a:close/>
              </a:path>
              <a:path fill="darkenLess" w="179055" h="21600">
                <a:moveTo>
                  <a:pt x="179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655" y="20200"/>
                </a:lnTo>
                <a:close/>
              </a:path>
              <a:path fill="lighten" w="179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936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2.2.3  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数组元素的赋值操作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endshow"/>
          </p:cNvPr>
          <p:cNvSpPr/>
          <p:nvPr/>
        </p:nvSpPr>
        <p:spPr>
          <a:xfrm>
            <a:off x="5334120" y="5181480"/>
            <a:ext cx="1671480" cy="520920"/>
          </a:xfrm>
          <a:custGeom>
            <a:avLst/>
            <a:gdLst>
              <a:gd name="textAreaLeft" fmla="*/ 33480 w 1671480"/>
              <a:gd name="textAreaRight" fmla="*/ 1638000 w 167148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69275" h="21600">
                <a:moveTo>
                  <a:pt x="0" y="0"/>
                </a:moveTo>
                <a:lnTo>
                  <a:pt x="69275" y="0"/>
                </a:lnTo>
                <a:lnTo>
                  <a:pt x="69275" y="21600"/>
                </a:lnTo>
                <a:lnTo>
                  <a:pt x="0" y="21600"/>
                </a:lnTo>
                <a:close/>
              </a:path>
              <a:path fill="lightenLess" w="69275" h="21600">
                <a:moveTo>
                  <a:pt x="0" y="0"/>
                </a:moveTo>
                <a:lnTo>
                  <a:pt x="69275" y="0"/>
                </a:lnTo>
                <a:lnTo>
                  <a:pt x="67875" y="1400"/>
                </a:lnTo>
                <a:lnTo>
                  <a:pt x="1400" y="1400"/>
                </a:lnTo>
                <a:close/>
              </a:path>
              <a:path fill="darken" w="69275" h="21600">
                <a:moveTo>
                  <a:pt x="69275" y="0"/>
                </a:moveTo>
                <a:lnTo>
                  <a:pt x="69275" y="21600"/>
                </a:lnTo>
                <a:lnTo>
                  <a:pt x="67875" y="20200"/>
                </a:lnTo>
                <a:lnTo>
                  <a:pt x="67875" y="1400"/>
                </a:lnTo>
                <a:close/>
              </a:path>
              <a:path fill="darkenLess" w="69275" h="21600">
                <a:moveTo>
                  <a:pt x="692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875" y="20200"/>
                </a:lnTo>
                <a:close/>
              </a:path>
              <a:path fill="lighten" w="692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退   出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2666880" y="1828800"/>
            <a:ext cx="4318200" cy="520560"/>
          </a:xfrm>
          <a:custGeom>
            <a:avLst/>
            <a:gdLst>
              <a:gd name="textAreaLeft" fmla="*/ 33480 w 4318200"/>
              <a:gd name="textAreaRight" fmla="*/ 4284720 w 431820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179070" h="21600">
                <a:moveTo>
                  <a:pt x="0" y="0"/>
                </a:moveTo>
                <a:lnTo>
                  <a:pt x="179070" y="0"/>
                </a:lnTo>
                <a:lnTo>
                  <a:pt x="179070" y="21600"/>
                </a:lnTo>
                <a:lnTo>
                  <a:pt x="0" y="21600"/>
                </a:lnTo>
                <a:close/>
              </a:path>
              <a:path fill="lightenLess" w="179070" h="21600">
                <a:moveTo>
                  <a:pt x="0" y="0"/>
                </a:moveTo>
                <a:lnTo>
                  <a:pt x="179070" y="0"/>
                </a:lnTo>
                <a:lnTo>
                  <a:pt x="177670" y="1400"/>
                </a:lnTo>
                <a:lnTo>
                  <a:pt x="1400" y="1400"/>
                </a:lnTo>
                <a:close/>
              </a:path>
              <a:path fill="darken" w="179070" h="21600">
                <a:moveTo>
                  <a:pt x="179070" y="0"/>
                </a:moveTo>
                <a:lnTo>
                  <a:pt x="179070" y="21600"/>
                </a:lnTo>
                <a:lnTo>
                  <a:pt x="177670" y="20200"/>
                </a:lnTo>
                <a:lnTo>
                  <a:pt x="177670" y="1400"/>
                </a:lnTo>
                <a:close/>
              </a:path>
              <a:path fill="darkenLess" w="179070" h="21600">
                <a:moveTo>
                  <a:pt x="179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670" y="20200"/>
                </a:lnTo>
                <a:close/>
              </a:path>
              <a:path fill="lighten" w="179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936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2.2.1  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数组与下标变量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2" name="">
            <a:hlinkClick r:id="rId4" action="ppaction://hlinksldjump"/>
          </p:cNvPr>
          <p:cNvSpPr/>
          <p:nvPr/>
        </p:nvSpPr>
        <p:spPr>
          <a:xfrm>
            <a:off x="2743200" y="5181480"/>
            <a:ext cx="1671480" cy="520920"/>
          </a:xfrm>
          <a:custGeom>
            <a:avLst/>
            <a:gdLst>
              <a:gd name="textAreaLeft" fmla="*/ 33480 w 1671480"/>
              <a:gd name="textAreaRight" fmla="*/ 1638000 w 167148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69275" h="21600">
                <a:moveTo>
                  <a:pt x="0" y="0"/>
                </a:moveTo>
                <a:lnTo>
                  <a:pt x="69275" y="0"/>
                </a:lnTo>
                <a:lnTo>
                  <a:pt x="69275" y="21600"/>
                </a:lnTo>
                <a:lnTo>
                  <a:pt x="0" y="21600"/>
                </a:lnTo>
                <a:close/>
              </a:path>
              <a:path fill="lightenLess" w="69275" h="21600">
                <a:moveTo>
                  <a:pt x="0" y="0"/>
                </a:moveTo>
                <a:lnTo>
                  <a:pt x="69275" y="0"/>
                </a:lnTo>
                <a:lnTo>
                  <a:pt x="67875" y="1400"/>
                </a:lnTo>
                <a:lnTo>
                  <a:pt x="1400" y="1400"/>
                </a:lnTo>
                <a:close/>
              </a:path>
              <a:path fill="darken" w="69275" h="21600">
                <a:moveTo>
                  <a:pt x="69275" y="0"/>
                </a:moveTo>
                <a:lnTo>
                  <a:pt x="69275" y="21600"/>
                </a:lnTo>
                <a:lnTo>
                  <a:pt x="67875" y="20200"/>
                </a:lnTo>
                <a:lnTo>
                  <a:pt x="67875" y="1400"/>
                </a:lnTo>
                <a:close/>
              </a:path>
              <a:path fill="darkenLess" w="69275" h="21600">
                <a:moveTo>
                  <a:pt x="692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875" y="20200"/>
                </a:lnTo>
                <a:close/>
              </a:path>
              <a:path fill="lighten" w="692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返 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C980-63DB-42A3-BC66-AD2E38B6A8D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1B96DA-1460-4651-9D73-17151DF1D8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943600" y="6032520"/>
            <a:ext cx="1671480" cy="520560"/>
          </a:xfrm>
          <a:custGeom>
            <a:avLst/>
            <a:gdLst>
              <a:gd name="textAreaLeft" fmla="*/ 33480 w 1671480"/>
              <a:gd name="textAreaRight" fmla="*/ 1638000 w 167148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69323" h="21600">
                <a:moveTo>
                  <a:pt x="0" y="0"/>
                </a:moveTo>
                <a:lnTo>
                  <a:pt x="69323" y="0"/>
                </a:lnTo>
                <a:lnTo>
                  <a:pt x="69323" y="21600"/>
                </a:lnTo>
                <a:lnTo>
                  <a:pt x="0" y="21600"/>
                </a:lnTo>
                <a:close/>
              </a:path>
              <a:path fill="lightenLess" w="69323" h="21600">
                <a:moveTo>
                  <a:pt x="0" y="0"/>
                </a:moveTo>
                <a:lnTo>
                  <a:pt x="69323" y="0"/>
                </a:lnTo>
                <a:lnTo>
                  <a:pt x="67923" y="1400"/>
                </a:lnTo>
                <a:lnTo>
                  <a:pt x="1400" y="1400"/>
                </a:lnTo>
                <a:close/>
              </a:path>
              <a:path fill="darken" w="69323" h="21600">
                <a:moveTo>
                  <a:pt x="69323" y="0"/>
                </a:moveTo>
                <a:lnTo>
                  <a:pt x="69323" y="21600"/>
                </a:lnTo>
                <a:lnTo>
                  <a:pt x="67923" y="20200"/>
                </a:lnTo>
                <a:lnTo>
                  <a:pt x="67923" y="1400"/>
                </a:lnTo>
                <a:close/>
              </a:path>
              <a:path fill="darkenLess" w="69323" h="21600">
                <a:moveTo>
                  <a:pt x="69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23" y="20200"/>
                </a:lnTo>
                <a:close/>
              </a:path>
              <a:path fill="lighten" w="69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返 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30480" y="152280"/>
            <a:ext cx="340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2.2.1   </a:t>
            </a: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数组与下标变量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7938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下标变量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一组具有相同的变量名，而下标不同的变量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数组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存储在一个变量中由单个变量名引用的有序数据集合。数组中的每一个元素都可以通过一个数值下标被引用。在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Visual FoxPro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中，一个数组中的数据不必是同一种数据类型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8280" y="2784600"/>
            <a:ext cx="25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10040" y="2743200"/>
            <a:ext cx="7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下标变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981080" y="3200040"/>
            <a:ext cx="90828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49200" y="327672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变量名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200400" y="32767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17160" y="3581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下标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52680" y="2908440"/>
            <a:ext cx="1079640" cy="215640"/>
          </a:xfrm>
          <a:prstGeom prst="rightArrow">
            <a:avLst>
              <a:gd name="adj1" fmla="val 50000"/>
              <a:gd name="adj2" fmla="val 1251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38160" y="2784600"/>
            <a:ext cx="5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(1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93520" y="2819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数组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572000" y="32767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63840" y="358128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数组名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4995360" y="3200400"/>
            <a:ext cx="947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46880" y="358128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数组元素序号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562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说明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由若干单下标变量组成的数组称为一维数组，由若干双下标变量组成的数组称为二维数组。在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Visual FoxPro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中，只允许使用一维数组或二维数组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A0D-3ECA-417D-817E-1A87F7B642A4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44479-4B60-419D-A742-3630168060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4920" y="1295280"/>
            <a:ext cx="8610480" cy="1752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41960" y="152280"/>
            <a:ext cx="258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2.2.2   </a:t>
            </a: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定义数组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7938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在使用数组时一定要先定义 ，有两条命令可以定义数组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04920" y="1447920"/>
            <a:ext cx="1447560" cy="459720"/>
            <a:chOff x="304920" y="1447920"/>
            <a:chExt cx="1447560" cy="459720"/>
          </a:xfrm>
        </p:grpSpPr>
        <p:sp>
          <p:nvSpPr>
            <p:cNvPr id="244" name=""/>
            <p:cNvSpPr/>
            <p:nvPr/>
          </p:nvSpPr>
          <p:spPr>
            <a:xfrm>
              <a:off x="913680" y="1447920"/>
              <a:ext cx="3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格式一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4920" y="1447920"/>
              <a:ext cx="144756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04920" y="2362320"/>
            <a:ext cx="1447560" cy="459720"/>
            <a:chOff x="304920" y="2362320"/>
            <a:chExt cx="1447560" cy="459720"/>
          </a:xfrm>
        </p:grpSpPr>
        <p:sp>
          <p:nvSpPr>
            <p:cNvPr id="247" name=""/>
            <p:cNvSpPr/>
            <p:nvPr/>
          </p:nvSpPr>
          <p:spPr>
            <a:xfrm>
              <a:off x="792000" y="2362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格式二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4920" y="2362320"/>
              <a:ext cx="144756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077920" y="1371600"/>
            <a:ext cx="683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DIMENSION 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数组名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1&g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行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[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列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]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数组名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2&gt;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行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[,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列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]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）……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]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22255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数组名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1&g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行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[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列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]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数组名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2&gt;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行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[,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列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]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）……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]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3165480"/>
            <a:ext cx="86104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功能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定义一个或多个一维或二维的内存变量数组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参数描述：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DIMENSION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DECLARE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为定义数组的命令动词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数组名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1&g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指定数组的名称，其规定与内存变量名相同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行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[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列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]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）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定义数组的维数和大小 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说明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数组的下标的起始值为１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同一数组中的数组元素可以有不同的数据类型 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二维数组中各元素按行的顺序依次排列 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E6CB-F3D0-48BE-AA96-C3620D2D3FA5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24C58-9FA2-4833-AB37-C5E543ACE3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80880" y="304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每个数组占用一个内存变量 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除了可以分别对数组元素赋值以外，也可对数组中的所有元素赋同一初值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IMENSION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ECLARE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功能完全相同，常用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IMENSION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2840" y="2362320"/>
            <a:ext cx="84110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DIMENSION &lt;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数组名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1&gt;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行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&gt;[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列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&gt;]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数组名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2&gt; 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行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&gt;[,&lt;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列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&gt;]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）……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IMENSION A     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2     ,    3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,     BB          (  4     ,   8   )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2819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2819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819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05320" y="2819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2819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2819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00600" y="2819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2819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15000" y="2819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81680" y="2819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2819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43800" y="2819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48720" y="2819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29600" y="28195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5277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定义数组：                              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IMENSION A(2,3),BB(4,8)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也可以一次只定义一个数组：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IMENSION A(2,3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也可以只定义一维数组：      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IMENSION A(6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80920" y="1905120"/>
            <a:ext cx="18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定义数组命令使用示例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18240" y="3776760"/>
            <a:ext cx="287280" cy="718920"/>
          </a:xfrm>
          <a:prstGeom prst="downArrow">
            <a:avLst>
              <a:gd name="adj1" fmla="val 50000"/>
              <a:gd name="adj2" fmla="val 6256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43600" y="6032520"/>
            <a:ext cx="1671480" cy="520560"/>
          </a:xfrm>
          <a:custGeom>
            <a:avLst/>
            <a:gdLst>
              <a:gd name="textAreaLeft" fmla="*/ 33480 w 1671480"/>
              <a:gd name="textAreaRight" fmla="*/ 1638000 w 167148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69323" h="21600">
                <a:moveTo>
                  <a:pt x="0" y="0"/>
                </a:moveTo>
                <a:lnTo>
                  <a:pt x="69323" y="0"/>
                </a:lnTo>
                <a:lnTo>
                  <a:pt x="69323" y="21600"/>
                </a:lnTo>
                <a:lnTo>
                  <a:pt x="0" y="21600"/>
                </a:lnTo>
                <a:close/>
              </a:path>
              <a:path fill="lightenLess" w="69323" h="21600">
                <a:moveTo>
                  <a:pt x="0" y="0"/>
                </a:moveTo>
                <a:lnTo>
                  <a:pt x="69323" y="0"/>
                </a:lnTo>
                <a:lnTo>
                  <a:pt x="67923" y="1400"/>
                </a:lnTo>
                <a:lnTo>
                  <a:pt x="1400" y="1400"/>
                </a:lnTo>
                <a:close/>
              </a:path>
              <a:path fill="darken" w="69323" h="21600">
                <a:moveTo>
                  <a:pt x="69323" y="0"/>
                </a:moveTo>
                <a:lnTo>
                  <a:pt x="69323" y="21600"/>
                </a:lnTo>
                <a:lnTo>
                  <a:pt x="67923" y="20200"/>
                </a:lnTo>
                <a:lnTo>
                  <a:pt x="67923" y="1400"/>
                </a:lnTo>
                <a:close/>
              </a:path>
              <a:path fill="darkenLess" w="69323" h="21600">
                <a:moveTo>
                  <a:pt x="69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23" y="20200"/>
                </a:lnTo>
                <a:close/>
              </a:path>
              <a:path fill="lighten" w="69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返 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DF5D-C623-49B8-B636-49580BA7B9E1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40927-A414-47BE-9BCB-DF704E25F5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04920" y="717480"/>
            <a:ext cx="8642160" cy="5302440"/>
          </a:xfrm>
          <a:prstGeom prst="rect">
            <a:avLst/>
          </a:prstGeom>
          <a:gradFill rotWithShape="0">
            <a:gsLst>
              <a:gs pos="0">
                <a:srgbClr val="ebffeb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07931e"/>
            </a:solidFill>
            <a:miter/>
          </a:ln>
          <a:effectLst>
            <a:outerShdw dist="107932" dir="2700000" blurRad="0" rotWithShape="0">
              <a:srgbClr val="33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56800" y="152280"/>
            <a:ext cx="413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2.2.3   </a:t>
            </a: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数组元素的赋值操作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09680" y="9144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STORE 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表达式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 TO 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数组名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数组元素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76320" y="914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格式一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838080"/>
            <a:ext cx="138744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895480" y="1294920"/>
            <a:ext cx="0" cy="381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029200" y="1294920"/>
            <a:ext cx="0" cy="381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55200" y="1600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命令动词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88920" y="1600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去向子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962520" y="1294920"/>
            <a:ext cx="0" cy="762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553080" y="1294920"/>
            <a:ext cx="0" cy="762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92200" y="1981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包含值的表达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13360" y="19810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接收值的数组名或元素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24382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STORE 0 TO A                   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将数值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赋给数组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的所有元素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STORE "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李磊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" TO A(2,1)  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将字符串“李磊”赋给数组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的第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行第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列的元素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2120" y="243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例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5520" y="2438280"/>
            <a:ext cx="86976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7840" y="3733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格式二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657600"/>
            <a:ext cx="138744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85240" y="3809880"/>
            <a:ext cx="34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数组名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数组元素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=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表达式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191120"/>
            <a:ext cx="0" cy="380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35160" y="44956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接收值的数组名或元素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029200" y="4114440"/>
            <a:ext cx="0" cy="762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97480" y="4800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赋值操作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57600" y="4495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包含值的表达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0440" y="535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例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4920" y="5389560"/>
            <a:ext cx="990360" cy="4017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78080" y="541008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A=.T.      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将逻辑真值赋给数组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的所有元素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0" name="">
            <a:hlinkClick r:id="rId1" action="ppaction://hlinksldjump"/>
          </p:cNvPr>
          <p:cNvSpPr/>
          <p:nvPr/>
        </p:nvSpPr>
        <p:spPr>
          <a:xfrm>
            <a:off x="5950080" y="6248520"/>
            <a:ext cx="1671480" cy="520560"/>
          </a:xfrm>
          <a:custGeom>
            <a:avLst/>
            <a:gdLst>
              <a:gd name="textAreaLeft" fmla="*/ 33480 w 1671480"/>
              <a:gd name="textAreaRight" fmla="*/ 1638000 w 167148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69323" h="21600">
                <a:moveTo>
                  <a:pt x="0" y="0"/>
                </a:moveTo>
                <a:lnTo>
                  <a:pt x="69323" y="0"/>
                </a:lnTo>
                <a:lnTo>
                  <a:pt x="69323" y="21600"/>
                </a:lnTo>
                <a:lnTo>
                  <a:pt x="0" y="21600"/>
                </a:lnTo>
                <a:close/>
              </a:path>
              <a:path fill="lightenLess" w="69323" h="21600">
                <a:moveTo>
                  <a:pt x="0" y="0"/>
                </a:moveTo>
                <a:lnTo>
                  <a:pt x="69323" y="0"/>
                </a:lnTo>
                <a:lnTo>
                  <a:pt x="67923" y="1400"/>
                </a:lnTo>
                <a:lnTo>
                  <a:pt x="1400" y="1400"/>
                </a:lnTo>
                <a:close/>
              </a:path>
              <a:path fill="darken" w="69323" h="21600">
                <a:moveTo>
                  <a:pt x="69323" y="0"/>
                </a:moveTo>
                <a:lnTo>
                  <a:pt x="69323" y="21600"/>
                </a:lnTo>
                <a:lnTo>
                  <a:pt x="67923" y="20200"/>
                </a:lnTo>
                <a:lnTo>
                  <a:pt x="67923" y="1400"/>
                </a:lnTo>
                <a:close/>
              </a:path>
              <a:path fill="darkenLess" w="69323" h="21600">
                <a:moveTo>
                  <a:pt x="69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23" y="20200"/>
                </a:lnTo>
                <a:close/>
              </a:path>
              <a:path fill="lighten" w="69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返 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00A8-8542-4641-999E-2D4A89BF6878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73332-F8BC-4E03-9DD7-5BC4FB25CE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00200" y="6858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Narrow"/>
              </a:rPr>
              <a:t>第</a:t>
            </a:r>
            <a:r>
              <a:rPr b="1" lang="zh-CN" sz="4400" spc="-1" strike="noStrike">
                <a:solidFill>
                  <a:srgbClr val="ffffff"/>
                </a:solidFill>
                <a:latin typeface="Arial Narrow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Arial Narrow"/>
              </a:rPr>
              <a:t>章 </a:t>
            </a:r>
            <a:r>
              <a:rPr b="1" lang="zh-CN" sz="4400" spc="-1" strike="noStrike">
                <a:solidFill>
                  <a:srgbClr val="ffffff"/>
                </a:solidFill>
                <a:latin typeface="Arial Narrow"/>
              </a:rPr>
              <a:t>VFP</a:t>
            </a:r>
            <a:r>
              <a:rPr b="1" lang="zh-CN" sz="4400" spc="-1" strike="noStrike">
                <a:solidFill>
                  <a:srgbClr val="ffffff"/>
                </a:solidFill>
                <a:latin typeface="Arial Narrow"/>
              </a:rPr>
              <a:t>的基本操作方法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2692440" y="2489040"/>
            <a:ext cx="4317840" cy="520920"/>
          </a:xfrm>
          <a:custGeom>
            <a:avLst/>
            <a:gdLst>
              <a:gd name="textAreaLeft" fmla="*/ 33480 w 4317840"/>
              <a:gd name="textAreaRight" fmla="*/ 4284360 w 431784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178931" h="21600">
                <a:moveTo>
                  <a:pt x="0" y="0"/>
                </a:moveTo>
                <a:lnTo>
                  <a:pt x="178931" y="0"/>
                </a:lnTo>
                <a:lnTo>
                  <a:pt x="178931" y="21600"/>
                </a:lnTo>
                <a:lnTo>
                  <a:pt x="0" y="21600"/>
                </a:lnTo>
                <a:close/>
              </a:path>
              <a:path fill="lightenLess" w="178931" h="21600">
                <a:moveTo>
                  <a:pt x="0" y="0"/>
                </a:moveTo>
                <a:lnTo>
                  <a:pt x="178931" y="0"/>
                </a:lnTo>
                <a:lnTo>
                  <a:pt x="177531" y="1400"/>
                </a:lnTo>
                <a:lnTo>
                  <a:pt x="1400" y="1400"/>
                </a:lnTo>
                <a:close/>
              </a:path>
              <a:path fill="darken" w="178931" h="21600">
                <a:moveTo>
                  <a:pt x="178931" y="0"/>
                </a:moveTo>
                <a:lnTo>
                  <a:pt x="178931" y="21600"/>
                </a:lnTo>
                <a:lnTo>
                  <a:pt x="177531" y="20200"/>
                </a:lnTo>
                <a:lnTo>
                  <a:pt x="177531" y="1400"/>
                </a:lnTo>
                <a:close/>
              </a:path>
              <a:path fill="darkenLess" w="178931" h="21600">
                <a:moveTo>
                  <a:pt x="178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531" y="20200"/>
                </a:lnTo>
                <a:close/>
              </a:path>
              <a:path fill="lighten" w="178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936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2.2 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数组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2687760" y="3137040"/>
            <a:ext cx="4317840" cy="520560"/>
          </a:xfrm>
          <a:custGeom>
            <a:avLst/>
            <a:gdLst>
              <a:gd name="textAreaLeft" fmla="*/ 33480 w 4317840"/>
              <a:gd name="textAreaRight" fmla="*/ 4284360 w 431784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179055" h="21600">
                <a:moveTo>
                  <a:pt x="0" y="0"/>
                </a:moveTo>
                <a:lnTo>
                  <a:pt x="179055" y="0"/>
                </a:lnTo>
                <a:lnTo>
                  <a:pt x="179055" y="21600"/>
                </a:lnTo>
                <a:lnTo>
                  <a:pt x="0" y="21600"/>
                </a:lnTo>
                <a:close/>
              </a:path>
              <a:path fill="lightenLess" w="179055" h="21600">
                <a:moveTo>
                  <a:pt x="0" y="0"/>
                </a:moveTo>
                <a:lnTo>
                  <a:pt x="179055" y="0"/>
                </a:lnTo>
                <a:lnTo>
                  <a:pt x="177655" y="1400"/>
                </a:lnTo>
                <a:lnTo>
                  <a:pt x="1400" y="1400"/>
                </a:lnTo>
                <a:close/>
              </a:path>
              <a:path fill="darken" w="179055" h="21600">
                <a:moveTo>
                  <a:pt x="179055" y="0"/>
                </a:moveTo>
                <a:lnTo>
                  <a:pt x="179055" y="21600"/>
                </a:lnTo>
                <a:lnTo>
                  <a:pt x="177655" y="20200"/>
                </a:lnTo>
                <a:lnTo>
                  <a:pt x="177655" y="1400"/>
                </a:lnTo>
                <a:close/>
              </a:path>
              <a:path fill="darkenLess" w="179055" h="21600">
                <a:moveTo>
                  <a:pt x="179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655" y="20200"/>
                </a:lnTo>
                <a:close/>
              </a:path>
              <a:path fill="lighten" w="179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936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2.3 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表达式与运算符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endshow"/>
          </p:cNvPr>
          <p:cNvSpPr/>
          <p:nvPr/>
        </p:nvSpPr>
        <p:spPr>
          <a:xfrm>
            <a:off x="5257800" y="4495680"/>
            <a:ext cx="1747800" cy="520920"/>
          </a:xfrm>
          <a:custGeom>
            <a:avLst/>
            <a:gdLst>
              <a:gd name="textAreaLeft" fmla="*/ 33480 w 1747800"/>
              <a:gd name="textAreaRight" fmla="*/ 1714320 w 174780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72438" h="21600">
                <a:moveTo>
                  <a:pt x="0" y="0"/>
                </a:moveTo>
                <a:lnTo>
                  <a:pt x="72438" y="0"/>
                </a:lnTo>
                <a:lnTo>
                  <a:pt x="72438" y="21600"/>
                </a:lnTo>
                <a:lnTo>
                  <a:pt x="0" y="21600"/>
                </a:lnTo>
                <a:close/>
              </a:path>
              <a:path fill="lightenLess" w="72438" h="21600">
                <a:moveTo>
                  <a:pt x="0" y="0"/>
                </a:moveTo>
                <a:lnTo>
                  <a:pt x="72438" y="0"/>
                </a:lnTo>
                <a:lnTo>
                  <a:pt x="71038" y="1400"/>
                </a:lnTo>
                <a:lnTo>
                  <a:pt x="1400" y="1400"/>
                </a:lnTo>
                <a:close/>
              </a:path>
              <a:path fill="darken" w="72438" h="21600">
                <a:moveTo>
                  <a:pt x="72438" y="0"/>
                </a:moveTo>
                <a:lnTo>
                  <a:pt x="72438" y="21600"/>
                </a:lnTo>
                <a:lnTo>
                  <a:pt x="71038" y="20200"/>
                </a:lnTo>
                <a:lnTo>
                  <a:pt x="71038" y="1400"/>
                </a:lnTo>
                <a:close/>
              </a:path>
              <a:path fill="darkenLess" w="72438" h="21600">
                <a:moveTo>
                  <a:pt x="724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038" y="20200"/>
                </a:lnTo>
                <a:close/>
              </a:path>
              <a:path fill="lighten" w="724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2666880" y="1828800"/>
            <a:ext cx="4318200" cy="520560"/>
          </a:xfrm>
          <a:custGeom>
            <a:avLst/>
            <a:gdLst>
              <a:gd name="textAreaLeft" fmla="*/ 33480 w 4318200"/>
              <a:gd name="textAreaRight" fmla="*/ 4284720 w 431820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179070" h="21600">
                <a:moveTo>
                  <a:pt x="0" y="0"/>
                </a:moveTo>
                <a:lnTo>
                  <a:pt x="179070" y="0"/>
                </a:lnTo>
                <a:lnTo>
                  <a:pt x="179070" y="21600"/>
                </a:lnTo>
                <a:lnTo>
                  <a:pt x="0" y="21600"/>
                </a:lnTo>
                <a:close/>
              </a:path>
              <a:path fill="lightenLess" w="179070" h="21600">
                <a:moveTo>
                  <a:pt x="0" y="0"/>
                </a:moveTo>
                <a:lnTo>
                  <a:pt x="179070" y="0"/>
                </a:lnTo>
                <a:lnTo>
                  <a:pt x="177670" y="1400"/>
                </a:lnTo>
                <a:lnTo>
                  <a:pt x="1400" y="1400"/>
                </a:lnTo>
                <a:close/>
              </a:path>
              <a:path fill="darken" w="179070" h="21600">
                <a:moveTo>
                  <a:pt x="179070" y="0"/>
                </a:moveTo>
                <a:lnTo>
                  <a:pt x="179070" y="21600"/>
                </a:lnTo>
                <a:lnTo>
                  <a:pt x="177670" y="20200"/>
                </a:lnTo>
                <a:lnTo>
                  <a:pt x="177670" y="1400"/>
                </a:lnTo>
                <a:close/>
              </a:path>
              <a:path fill="darkenLess" w="179070" h="21600">
                <a:moveTo>
                  <a:pt x="179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670" y="20200"/>
                </a:lnTo>
                <a:close/>
              </a:path>
              <a:path fill="lighten" w="179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936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2.1  VFP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内存变量的基本操作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8" name="">
            <a:hlinkClick r:id="rId4" action="ppaction://hlinksldjump"/>
          </p:cNvPr>
          <p:cNvSpPr/>
          <p:nvPr/>
        </p:nvSpPr>
        <p:spPr>
          <a:xfrm>
            <a:off x="2692440" y="3809880"/>
            <a:ext cx="4317840" cy="520920"/>
          </a:xfrm>
          <a:custGeom>
            <a:avLst/>
            <a:gdLst>
              <a:gd name="textAreaLeft" fmla="*/ 33480 w 4317840"/>
              <a:gd name="textAreaRight" fmla="*/ 4284360 w 431784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178931" h="21600">
                <a:moveTo>
                  <a:pt x="0" y="0"/>
                </a:moveTo>
                <a:lnTo>
                  <a:pt x="178931" y="0"/>
                </a:lnTo>
                <a:lnTo>
                  <a:pt x="178931" y="21600"/>
                </a:lnTo>
                <a:lnTo>
                  <a:pt x="0" y="21600"/>
                </a:lnTo>
                <a:close/>
              </a:path>
              <a:path fill="lightenLess" w="178931" h="21600">
                <a:moveTo>
                  <a:pt x="0" y="0"/>
                </a:moveTo>
                <a:lnTo>
                  <a:pt x="178931" y="0"/>
                </a:lnTo>
                <a:lnTo>
                  <a:pt x="177531" y="1400"/>
                </a:lnTo>
                <a:lnTo>
                  <a:pt x="1400" y="1400"/>
                </a:lnTo>
                <a:close/>
              </a:path>
              <a:path fill="darken" w="178931" h="21600">
                <a:moveTo>
                  <a:pt x="178931" y="0"/>
                </a:moveTo>
                <a:lnTo>
                  <a:pt x="178931" y="21600"/>
                </a:lnTo>
                <a:lnTo>
                  <a:pt x="177531" y="20200"/>
                </a:lnTo>
                <a:lnTo>
                  <a:pt x="177531" y="1400"/>
                </a:lnTo>
                <a:close/>
              </a:path>
              <a:path fill="darkenLess" w="178931" h="21600">
                <a:moveTo>
                  <a:pt x="178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531" y="20200"/>
                </a:lnTo>
                <a:close/>
              </a:path>
              <a:path fill="lighten" w="178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936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小结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87760" y="4495680"/>
            <a:ext cx="1807920" cy="520920"/>
          </a:xfrm>
          <a:custGeom>
            <a:avLst/>
            <a:gdLst>
              <a:gd name="textAreaLeft" fmla="*/ 33480 w 1807920"/>
              <a:gd name="textAreaRight" fmla="*/ 1774440 w 180792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74929" h="21600">
                <a:moveTo>
                  <a:pt x="0" y="0"/>
                </a:moveTo>
                <a:lnTo>
                  <a:pt x="74929" y="0"/>
                </a:lnTo>
                <a:lnTo>
                  <a:pt x="74929" y="21600"/>
                </a:lnTo>
                <a:lnTo>
                  <a:pt x="0" y="21600"/>
                </a:lnTo>
                <a:close/>
              </a:path>
              <a:path fill="lightenLess" w="74929" h="21600">
                <a:moveTo>
                  <a:pt x="0" y="0"/>
                </a:moveTo>
                <a:lnTo>
                  <a:pt x="74929" y="0"/>
                </a:lnTo>
                <a:lnTo>
                  <a:pt x="73529" y="1400"/>
                </a:lnTo>
                <a:lnTo>
                  <a:pt x="1400" y="1400"/>
                </a:lnTo>
                <a:close/>
              </a:path>
              <a:path fill="darken" w="74929" h="21600">
                <a:moveTo>
                  <a:pt x="74929" y="0"/>
                </a:moveTo>
                <a:lnTo>
                  <a:pt x="74929" y="21600"/>
                </a:lnTo>
                <a:lnTo>
                  <a:pt x="73529" y="20200"/>
                </a:lnTo>
                <a:lnTo>
                  <a:pt x="73529" y="1400"/>
                </a:lnTo>
                <a:close/>
              </a:path>
              <a:path fill="darkenLess" w="74929" h="21600">
                <a:moveTo>
                  <a:pt x="74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529" y="20200"/>
                </a:lnTo>
                <a:close/>
              </a:path>
              <a:path fill="lighten" w="74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1064-9D03-4F2D-A70E-C445AEC720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300C7-CC1C-475A-BF36-F198CFDEF1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209040" y="225360"/>
            <a:ext cx="317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ebfa"/>
                </a:solidFill>
                <a:latin typeface="Times New Roman"/>
              </a:rPr>
              <a:t>2.3  </a:t>
            </a: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表达式</a:t>
            </a:r>
            <a:r>
              <a:rPr b="1" lang="zh-CN" sz="4000" spc="-1" strike="noStrike">
                <a:solidFill>
                  <a:srgbClr val="ffebfa"/>
                </a:solidFill>
                <a:latin typeface="Times New Roman"/>
              </a:rPr>
              <a:t>与运算符</a:t>
            </a: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1824120" y="1527120"/>
            <a:ext cx="5719680" cy="827280"/>
          </a:xfrm>
          <a:custGeom>
            <a:avLst/>
            <a:gdLst>
              <a:gd name="textAreaLeft" fmla="*/ 53640 w 5719680"/>
              <a:gd name="textAreaRight" fmla="*/ 5666040 w 5719680"/>
              <a:gd name="textAreaTop" fmla="*/ 53640 h 827280"/>
              <a:gd name="textAreaBottom" fmla="*/ 773640 h 827280"/>
            </a:gdLst>
            <a:ahLst/>
            <a:rect l="textAreaLeft" t="textAreaTop" r="textAreaRight" b="textAreaBottom"/>
            <a:pathLst>
              <a:path w="149283" h="21600">
                <a:moveTo>
                  <a:pt x="0" y="0"/>
                </a:moveTo>
                <a:lnTo>
                  <a:pt x="149283" y="0"/>
                </a:lnTo>
                <a:lnTo>
                  <a:pt x="149283" y="21600"/>
                </a:lnTo>
                <a:lnTo>
                  <a:pt x="0" y="21600"/>
                </a:lnTo>
                <a:close/>
              </a:path>
              <a:path fill="lightenLess" w="149283" h="21600">
                <a:moveTo>
                  <a:pt x="0" y="0"/>
                </a:moveTo>
                <a:lnTo>
                  <a:pt x="149283" y="0"/>
                </a:lnTo>
                <a:lnTo>
                  <a:pt x="147883" y="1400"/>
                </a:lnTo>
                <a:lnTo>
                  <a:pt x="1400" y="1400"/>
                </a:lnTo>
                <a:close/>
              </a:path>
              <a:path fill="darken" w="149283" h="21600">
                <a:moveTo>
                  <a:pt x="149283" y="0"/>
                </a:moveTo>
                <a:lnTo>
                  <a:pt x="149283" y="21600"/>
                </a:lnTo>
                <a:lnTo>
                  <a:pt x="147883" y="20200"/>
                </a:lnTo>
                <a:lnTo>
                  <a:pt x="147883" y="1400"/>
                </a:lnTo>
                <a:close/>
              </a:path>
              <a:path fill="darkenLess" w="149283" h="21600">
                <a:moveTo>
                  <a:pt x="149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7883" y="20200"/>
                </a:lnTo>
                <a:close/>
              </a:path>
              <a:path fill="lighten" w="149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9dbd3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2.3.1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表达式的概念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3" name="">
            <a:hlinkClick r:id="rId2" action="ppaction://hlinksldjump"/>
          </p:cNvPr>
          <p:cNvSpPr/>
          <p:nvPr/>
        </p:nvSpPr>
        <p:spPr>
          <a:xfrm>
            <a:off x="1828800" y="2514600"/>
            <a:ext cx="5719680" cy="826920"/>
          </a:xfrm>
          <a:custGeom>
            <a:avLst/>
            <a:gdLst>
              <a:gd name="textAreaLeft" fmla="*/ 53280 w 5719680"/>
              <a:gd name="textAreaRight" fmla="*/ 5666400 w 571968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149348" h="21600">
                <a:moveTo>
                  <a:pt x="0" y="0"/>
                </a:moveTo>
                <a:lnTo>
                  <a:pt x="149348" y="0"/>
                </a:lnTo>
                <a:lnTo>
                  <a:pt x="149348" y="21600"/>
                </a:lnTo>
                <a:lnTo>
                  <a:pt x="0" y="21600"/>
                </a:lnTo>
                <a:close/>
              </a:path>
              <a:path fill="lightenLess" w="149348" h="21600">
                <a:moveTo>
                  <a:pt x="0" y="0"/>
                </a:moveTo>
                <a:lnTo>
                  <a:pt x="149348" y="0"/>
                </a:lnTo>
                <a:lnTo>
                  <a:pt x="147948" y="1400"/>
                </a:lnTo>
                <a:lnTo>
                  <a:pt x="1400" y="1400"/>
                </a:lnTo>
                <a:close/>
              </a:path>
              <a:path fill="darken" w="149348" h="21600">
                <a:moveTo>
                  <a:pt x="149348" y="0"/>
                </a:moveTo>
                <a:lnTo>
                  <a:pt x="149348" y="21600"/>
                </a:lnTo>
                <a:lnTo>
                  <a:pt x="147948" y="20200"/>
                </a:lnTo>
                <a:lnTo>
                  <a:pt x="147948" y="1400"/>
                </a:lnTo>
                <a:close/>
              </a:path>
              <a:path fill="darkenLess" w="149348" h="21600">
                <a:moveTo>
                  <a:pt x="14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7948" y="20200"/>
                </a:lnTo>
                <a:close/>
              </a:path>
              <a:path fill="lighten" w="14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9dbd3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2.3.2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运算符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4" name="">
            <a:hlinkClick r:id="rId3" action="ppaction://hlinksldjump"/>
          </p:cNvPr>
          <p:cNvSpPr/>
          <p:nvPr/>
        </p:nvSpPr>
        <p:spPr>
          <a:xfrm>
            <a:off x="1827360" y="3505320"/>
            <a:ext cx="5717880" cy="826920"/>
          </a:xfrm>
          <a:custGeom>
            <a:avLst/>
            <a:gdLst>
              <a:gd name="textAreaLeft" fmla="*/ 53280 w 5717880"/>
              <a:gd name="textAreaRight" fmla="*/ 5664600 w 571788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149301" h="21600">
                <a:moveTo>
                  <a:pt x="0" y="0"/>
                </a:moveTo>
                <a:lnTo>
                  <a:pt x="149301" y="0"/>
                </a:lnTo>
                <a:lnTo>
                  <a:pt x="149301" y="21600"/>
                </a:lnTo>
                <a:lnTo>
                  <a:pt x="0" y="21600"/>
                </a:lnTo>
                <a:close/>
              </a:path>
              <a:path fill="lightenLess" w="149301" h="21600">
                <a:moveTo>
                  <a:pt x="0" y="0"/>
                </a:moveTo>
                <a:lnTo>
                  <a:pt x="149301" y="0"/>
                </a:lnTo>
                <a:lnTo>
                  <a:pt x="147901" y="1400"/>
                </a:lnTo>
                <a:lnTo>
                  <a:pt x="1400" y="1400"/>
                </a:lnTo>
                <a:close/>
              </a:path>
              <a:path fill="darken" w="149301" h="21600">
                <a:moveTo>
                  <a:pt x="149301" y="0"/>
                </a:moveTo>
                <a:lnTo>
                  <a:pt x="149301" y="21600"/>
                </a:lnTo>
                <a:lnTo>
                  <a:pt x="147901" y="20200"/>
                </a:lnTo>
                <a:lnTo>
                  <a:pt x="147901" y="1400"/>
                </a:lnTo>
                <a:close/>
              </a:path>
              <a:path fill="darkenLess" w="149301" h="21600">
                <a:moveTo>
                  <a:pt x="1493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7901" y="20200"/>
                </a:lnTo>
                <a:close/>
              </a:path>
              <a:path fill="lighten" w="1493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9dbd3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2.3.3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运算符的优先级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27360" y="4494240"/>
            <a:ext cx="2360520" cy="826920"/>
          </a:xfrm>
          <a:custGeom>
            <a:avLst/>
            <a:gdLst>
              <a:gd name="textAreaLeft" fmla="*/ 53280 w 2360520"/>
              <a:gd name="textAreaRight" fmla="*/ 2307240 w 236052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61642" h="21600">
                <a:moveTo>
                  <a:pt x="0" y="0"/>
                </a:moveTo>
                <a:lnTo>
                  <a:pt x="61642" y="0"/>
                </a:lnTo>
                <a:lnTo>
                  <a:pt x="61642" y="21600"/>
                </a:lnTo>
                <a:lnTo>
                  <a:pt x="0" y="21600"/>
                </a:lnTo>
                <a:close/>
              </a:path>
              <a:path fill="lightenLess" w="61642" h="21600">
                <a:moveTo>
                  <a:pt x="0" y="0"/>
                </a:moveTo>
                <a:lnTo>
                  <a:pt x="61642" y="0"/>
                </a:lnTo>
                <a:lnTo>
                  <a:pt x="60242" y="1400"/>
                </a:lnTo>
                <a:lnTo>
                  <a:pt x="1400" y="1400"/>
                </a:lnTo>
                <a:close/>
              </a:path>
              <a:path fill="darken" w="61642" h="21600">
                <a:moveTo>
                  <a:pt x="61642" y="0"/>
                </a:moveTo>
                <a:lnTo>
                  <a:pt x="61642" y="21600"/>
                </a:lnTo>
                <a:lnTo>
                  <a:pt x="60242" y="20200"/>
                </a:lnTo>
                <a:lnTo>
                  <a:pt x="60242" y="1400"/>
                </a:lnTo>
                <a:close/>
              </a:path>
              <a:path fill="darkenLess" w="61642" h="21600">
                <a:moveTo>
                  <a:pt x="61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42" y="20200"/>
                </a:lnTo>
                <a:close/>
              </a:path>
              <a:path fill="lighten" w="61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9dbd3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返       回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endshow"/>
          </p:cNvPr>
          <p:cNvSpPr/>
          <p:nvPr/>
        </p:nvSpPr>
        <p:spPr>
          <a:xfrm>
            <a:off x="5181480" y="4495680"/>
            <a:ext cx="2362320" cy="827280"/>
          </a:xfrm>
          <a:custGeom>
            <a:avLst/>
            <a:gdLst>
              <a:gd name="textAreaLeft" fmla="*/ 53640 w 2362320"/>
              <a:gd name="textAreaRight" fmla="*/ 2308680 w 2362320"/>
              <a:gd name="textAreaTop" fmla="*/ 53640 h 827280"/>
              <a:gd name="textAreaBottom" fmla="*/ 773640 h 827280"/>
            </a:gdLst>
            <a:ahLst/>
            <a:rect l="textAreaLeft" t="textAreaTop" r="textAreaRight" b="textAreaBottom"/>
            <a:pathLst>
              <a:path w="61662" h="21600">
                <a:moveTo>
                  <a:pt x="0" y="0"/>
                </a:moveTo>
                <a:lnTo>
                  <a:pt x="61662" y="0"/>
                </a:lnTo>
                <a:lnTo>
                  <a:pt x="61662" y="21600"/>
                </a:lnTo>
                <a:lnTo>
                  <a:pt x="0" y="21600"/>
                </a:lnTo>
                <a:close/>
              </a:path>
              <a:path fill="lightenLess" w="61662" h="21600">
                <a:moveTo>
                  <a:pt x="0" y="0"/>
                </a:moveTo>
                <a:lnTo>
                  <a:pt x="61662" y="0"/>
                </a:lnTo>
                <a:lnTo>
                  <a:pt x="60262" y="1400"/>
                </a:lnTo>
                <a:lnTo>
                  <a:pt x="1400" y="1400"/>
                </a:lnTo>
                <a:close/>
              </a:path>
              <a:path fill="darken" w="61662" h="21600">
                <a:moveTo>
                  <a:pt x="61662" y="0"/>
                </a:moveTo>
                <a:lnTo>
                  <a:pt x="61662" y="21600"/>
                </a:lnTo>
                <a:lnTo>
                  <a:pt x="60262" y="20200"/>
                </a:lnTo>
                <a:lnTo>
                  <a:pt x="60262" y="1400"/>
                </a:lnTo>
                <a:close/>
              </a:path>
              <a:path fill="darkenLess" w="61662" h="21600">
                <a:moveTo>
                  <a:pt x="6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262" y="20200"/>
                </a:lnTo>
                <a:close/>
              </a:path>
              <a:path fill="lighten" w="6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9dbd3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dbd3"/>
                </a:solidFill>
                <a:latin typeface="Times New Roman"/>
              </a:rPr>
              <a:t>退        出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357E-EADB-48E9-8395-2700426B89B3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4A1E6-B0DD-46AC-B4CD-D64B5B9178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28600" y="4114800"/>
            <a:ext cx="861048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04920" y="4267080"/>
            <a:ext cx="1447560" cy="459720"/>
            <a:chOff x="304920" y="4267080"/>
            <a:chExt cx="1447560" cy="459720"/>
          </a:xfrm>
        </p:grpSpPr>
        <p:sp>
          <p:nvSpPr>
            <p:cNvPr id="309" name=""/>
            <p:cNvSpPr/>
            <p:nvPr/>
          </p:nvSpPr>
          <p:spPr>
            <a:xfrm>
              <a:off x="913680" y="4267080"/>
              <a:ext cx="3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格式一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4920" y="4267080"/>
              <a:ext cx="144756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495680" y="4267080"/>
            <a:ext cx="1447560" cy="459720"/>
            <a:chOff x="4495680" y="4267080"/>
            <a:chExt cx="1447560" cy="459720"/>
          </a:xfrm>
        </p:grpSpPr>
        <p:sp>
          <p:nvSpPr>
            <p:cNvPr id="312" name=""/>
            <p:cNvSpPr/>
            <p:nvPr/>
          </p:nvSpPr>
          <p:spPr>
            <a:xfrm>
              <a:off x="4982760" y="42670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格式二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495680" y="4267080"/>
              <a:ext cx="144756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3101040" y="225360"/>
            <a:ext cx="33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ebfa"/>
                </a:solidFill>
                <a:latin typeface="Times New Roman"/>
              </a:rPr>
              <a:t>2.3.1   </a:t>
            </a: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表达式</a:t>
            </a:r>
            <a:r>
              <a:rPr b="1" lang="zh-CN" sz="4000" spc="-1" strike="noStrike">
                <a:solidFill>
                  <a:srgbClr val="ffebfa"/>
                </a:solidFill>
                <a:latin typeface="Times New Roman"/>
              </a:rPr>
              <a:t>的概念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990720"/>
            <a:ext cx="86104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表达式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由运算符和括号将常量、变量和函数连接起来的有意义的式子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单个的常量、变量和函数都可以看作是最简单的表达式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表达式按照运算结果的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类型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可以分为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四类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■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字符型表达式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                           ■ 数值型表达式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■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逻辑型表达式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L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                           ■ 日期型表达式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00960" y="426708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？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表达式列表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18520" y="42670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??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表达式列表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94520" y="3519360"/>
            <a:ext cx="14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表达式显示命令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4160" y="5029200"/>
            <a:ext cx="866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功能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计算表达式的值，并将其显示到屏幕上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区别：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？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换行显示，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??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不换行显示 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50080" y="6108840"/>
            <a:ext cx="1671480" cy="520560"/>
          </a:xfrm>
          <a:custGeom>
            <a:avLst/>
            <a:gdLst>
              <a:gd name="textAreaLeft" fmla="*/ 33480 w 1671480"/>
              <a:gd name="textAreaRight" fmla="*/ 1638000 w 167148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69323" h="21600">
                <a:moveTo>
                  <a:pt x="0" y="0"/>
                </a:moveTo>
                <a:lnTo>
                  <a:pt x="69323" y="0"/>
                </a:lnTo>
                <a:lnTo>
                  <a:pt x="69323" y="21600"/>
                </a:lnTo>
                <a:lnTo>
                  <a:pt x="0" y="21600"/>
                </a:lnTo>
                <a:close/>
              </a:path>
              <a:path fill="lightenLess" w="69323" h="21600">
                <a:moveTo>
                  <a:pt x="0" y="0"/>
                </a:moveTo>
                <a:lnTo>
                  <a:pt x="69323" y="0"/>
                </a:lnTo>
                <a:lnTo>
                  <a:pt x="67923" y="1400"/>
                </a:lnTo>
                <a:lnTo>
                  <a:pt x="1400" y="1400"/>
                </a:lnTo>
                <a:close/>
              </a:path>
              <a:path fill="darken" w="69323" h="21600">
                <a:moveTo>
                  <a:pt x="69323" y="0"/>
                </a:moveTo>
                <a:lnTo>
                  <a:pt x="69323" y="21600"/>
                </a:lnTo>
                <a:lnTo>
                  <a:pt x="67923" y="20200"/>
                </a:lnTo>
                <a:lnTo>
                  <a:pt x="67923" y="1400"/>
                </a:lnTo>
                <a:close/>
              </a:path>
              <a:path fill="darkenLess" w="69323" h="21600">
                <a:moveTo>
                  <a:pt x="69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23" y="20200"/>
                </a:lnTo>
                <a:close/>
              </a:path>
              <a:path fill="lighten" w="69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返 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F526-0101-41EF-8DDA-4E8F7C6B6F5D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CB90D2-5729-41FA-AC61-9E334B0F86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557160" y="225360"/>
            <a:ext cx="247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ebfa"/>
                </a:solidFill>
                <a:latin typeface="Times New Roman"/>
              </a:rPr>
              <a:t>2.3.2   </a:t>
            </a: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运算符</a:t>
            </a:r>
            <a:r>
              <a:rPr b="1" lang="zh-CN" sz="4000" spc="-1" strike="noStrike">
                <a:solidFill>
                  <a:srgbClr val="ffebfa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990720"/>
            <a:ext cx="8610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运算符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是对数据对象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操作数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进行操作运算的符号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运算符以其结果的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类型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分组有如下五类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■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算术运算符                  ■关系运算符                   ■逻辑运算符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■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字符串运算符              ■日期运算符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026600" y="2681280"/>
            <a:ext cx="4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算术运算符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332424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+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加号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N×N→N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 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减号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N×N→N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*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乘号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N×N→N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 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除号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N×N→N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**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乘方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N×N→N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 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^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乘方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N×N→N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%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余数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N×N→N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143000" y="4723920"/>
            <a:ext cx="1932120" cy="608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4600" y="5257800"/>
            <a:ext cx="13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操作数类型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240000" y="4723920"/>
            <a:ext cx="189000" cy="57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65320" y="525780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运算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3693600" y="4723920"/>
            <a:ext cx="801720" cy="57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05440" y="5257800"/>
            <a:ext cx="13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操作数类型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114440" y="4724280"/>
            <a:ext cx="2135160" cy="519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85320" y="525780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运算结果类型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6108840"/>
            <a:ext cx="1671480" cy="520560"/>
          </a:xfrm>
          <a:custGeom>
            <a:avLst/>
            <a:gdLst>
              <a:gd name="textAreaLeft" fmla="*/ 33480 w 1671480"/>
              <a:gd name="textAreaRight" fmla="*/ 1638000 w 167148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69323" h="21600">
                <a:moveTo>
                  <a:pt x="0" y="0"/>
                </a:moveTo>
                <a:lnTo>
                  <a:pt x="69323" y="0"/>
                </a:lnTo>
                <a:lnTo>
                  <a:pt x="69323" y="21600"/>
                </a:lnTo>
                <a:lnTo>
                  <a:pt x="0" y="21600"/>
                </a:lnTo>
                <a:close/>
              </a:path>
              <a:path fill="lightenLess" w="69323" h="21600">
                <a:moveTo>
                  <a:pt x="0" y="0"/>
                </a:moveTo>
                <a:lnTo>
                  <a:pt x="69323" y="0"/>
                </a:lnTo>
                <a:lnTo>
                  <a:pt x="67923" y="1400"/>
                </a:lnTo>
                <a:lnTo>
                  <a:pt x="1400" y="1400"/>
                </a:lnTo>
                <a:close/>
              </a:path>
              <a:path fill="darken" w="69323" h="21600">
                <a:moveTo>
                  <a:pt x="69323" y="0"/>
                </a:moveTo>
                <a:lnTo>
                  <a:pt x="69323" y="21600"/>
                </a:lnTo>
                <a:lnTo>
                  <a:pt x="67923" y="20200"/>
                </a:lnTo>
                <a:lnTo>
                  <a:pt x="67923" y="1400"/>
                </a:lnTo>
                <a:close/>
              </a:path>
              <a:path fill="darkenLess" w="69323" h="21600">
                <a:moveTo>
                  <a:pt x="69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23" y="20200"/>
                </a:lnTo>
                <a:close/>
              </a:path>
              <a:path fill="lighten" w="69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返 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B1B9-8129-4E1C-A6F0-931FA6EC2035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BB2D0-B7F0-4AEC-A71C-2884A7665F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" y="374760"/>
            <a:ext cx="87631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关系运算符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关系运算符有如下十种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&l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小于               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N×N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C×C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×D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&g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大于               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N×N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C×C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×D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=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等于               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N×N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C×C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×D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&lt;=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小于或等于  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N×N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C×C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×D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&gt;=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大于或等于  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N×N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C×C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×D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&lt;&g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不等于          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N×N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C×C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×D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#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不等于            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N×N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C×C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×D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!=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不等于           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N×N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C×C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×D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$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属于               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C×C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  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==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精确等于     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C×C→L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2280" y="48211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关系运算符两边的数据类型必须相同，不同类型的数据无法进行有意义的比较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关系运算产生逻辑结果。即只能是逻辑“真”或逻辑“假”中的一种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6E1-8D71-4ABF-B706-3322873E0C6F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D7D7A-89B9-4086-B95B-0E06470A1E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80880" y="289080"/>
            <a:ext cx="85345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逻辑运算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逻辑运算符有下列几个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(1)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.NOT.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逻辑非（单边运算符）     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L→L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(2)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！   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逻辑非（单边运算符）     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L→L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(3)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.AND.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逻辑与                   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L×L→L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(4)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.OR. 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逻辑或                   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L×L→L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2320" y="2590920"/>
            <a:ext cx="81867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字符运算符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(1)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+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字符串精确连接         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C×C→C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(2)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字符串非精确连接       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C×C→C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日期运算符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(1)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+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加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×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N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→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N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×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→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(2)  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减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×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→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N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×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N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→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说明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日期加上数值得到将来的日期；数值加上日期得到将来的日期；日期减去数值得到过去的日期；两日期相减得到两个日期相差的天数。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50080" y="6108840"/>
            <a:ext cx="1671480" cy="520560"/>
          </a:xfrm>
          <a:custGeom>
            <a:avLst/>
            <a:gdLst>
              <a:gd name="textAreaLeft" fmla="*/ 33480 w 1671480"/>
              <a:gd name="textAreaRight" fmla="*/ 1638000 w 167148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69323" h="21600">
                <a:moveTo>
                  <a:pt x="0" y="0"/>
                </a:moveTo>
                <a:lnTo>
                  <a:pt x="69323" y="0"/>
                </a:lnTo>
                <a:lnTo>
                  <a:pt x="69323" y="21600"/>
                </a:lnTo>
                <a:lnTo>
                  <a:pt x="0" y="21600"/>
                </a:lnTo>
                <a:close/>
              </a:path>
              <a:path fill="lightenLess" w="69323" h="21600">
                <a:moveTo>
                  <a:pt x="0" y="0"/>
                </a:moveTo>
                <a:lnTo>
                  <a:pt x="69323" y="0"/>
                </a:lnTo>
                <a:lnTo>
                  <a:pt x="67923" y="1400"/>
                </a:lnTo>
                <a:lnTo>
                  <a:pt x="1400" y="1400"/>
                </a:lnTo>
                <a:close/>
              </a:path>
              <a:path fill="darken" w="69323" h="21600">
                <a:moveTo>
                  <a:pt x="69323" y="0"/>
                </a:moveTo>
                <a:lnTo>
                  <a:pt x="69323" y="21600"/>
                </a:lnTo>
                <a:lnTo>
                  <a:pt x="67923" y="20200"/>
                </a:lnTo>
                <a:lnTo>
                  <a:pt x="67923" y="1400"/>
                </a:lnTo>
                <a:close/>
              </a:path>
              <a:path fill="darkenLess" w="69323" h="21600">
                <a:moveTo>
                  <a:pt x="69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23" y="20200"/>
                </a:lnTo>
                <a:close/>
              </a:path>
              <a:path fill="lighten" w="69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返 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A875-AF9E-4C40-8B06-E608A69A8727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832F1-777E-48D3-AF13-455B617025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747880" y="152280"/>
            <a:ext cx="33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2.3.3   </a:t>
            </a: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运算符的优先级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70200" y="838080"/>
            <a:ext cx="59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算术运算符                      字符串运算符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371600" y="1335240"/>
            <a:ext cx="4578480" cy="2528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248520" y="1351080"/>
            <a:ext cx="2590560" cy="93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48520" y="3035160"/>
            <a:ext cx="2590560" cy="698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8760" y="1342440"/>
            <a:ext cx="36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最高级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47920" y="1371600"/>
            <a:ext cx="4376520" cy="3988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一元运算符 “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+”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和“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-”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（正负号）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687840" y="1828800"/>
            <a:ext cx="0" cy="2667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94120" y="2057400"/>
            <a:ext cx="1385280" cy="3988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**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或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^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（乘方）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687840" y="2476440"/>
            <a:ext cx="0" cy="2667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77240" y="2743200"/>
            <a:ext cx="2295720" cy="3988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*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、和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%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（乘、除和余数）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3162240"/>
            <a:ext cx="0" cy="2667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90880" y="3429000"/>
            <a:ext cx="1391760" cy="3988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+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-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（加和减）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59400" y="1447920"/>
            <a:ext cx="232740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+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-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（精确连接和非精确连接）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45400" y="3146400"/>
            <a:ext cx="1391760" cy="3988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+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-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（加和减）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922800" y="2457360"/>
            <a:ext cx="11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日期运算符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3962520"/>
            <a:ext cx="914400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79240" y="3976560"/>
            <a:ext cx="10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关系运算符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47920" y="4572000"/>
            <a:ext cx="3200400" cy="14619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600200" y="4648320"/>
            <a:ext cx="2955960" cy="8254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lt;=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gt;=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lt;&g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#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!=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$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==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81680" y="5562720"/>
            <a:ext cx="13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各运算符优先级相同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3657600"/>
            <a:ext cx="360360" cy="719280"/>
          </a:xfrm>
          <a:prstGeom prst="downArrow">
            <a:avLst>
              <a:gd name="adj1" fmla="val 50000"/>
              <a:gd name="adj2" fmla="val 49900"/>
            </a:avLst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7640" y="4304880"/>
            <a:ext cx="36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次高级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952880" y="3962520"/>
            <a:ext cx="0" cy="289548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24280" y="4973760"/>
            <a:ext cx="719280" cy="36036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98960" y="3962520"/>
            <a:ext cx="10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逻辑运算符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5880" y="4495680"/>
            <a:ext cx="2722680" cy="1982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4594320"/>
            <a:ext cx="2444760" cy="3988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.NOT.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或！（逻辑非）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21680" y="5051520"/>
            <a:ext cx="1440" cy="263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674040" y="5280120"/>
            <a:ext cx="1504800" cy="3988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.AND.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（逻辑与）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321680" y="5699160"/>
            <a:ext cx="1440" cy="263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33720" y="5965920"/>
            <a:ext cx="1370880" cy="39888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.OR.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（逻辑或）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85320" y="4542840"/>
            <a:ext cx="36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最低级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600200" y="6108840"/>
            <a:ext cx="1671480" cy="520560"/>
          </a:xfrm>
          <a:custGeom>
            <a:avLst/>
            <a:gdLst>
              <a:gd name="textAreaLeft" fmla="*/ 33480 w 1671480"/>
              <a:gd name="textAreaRight" fmla="*/ 1638000 w 167148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69323" h="21600">
                <a:moveTo>
                  <a:pt x="0" y="0"/>
                </a:moveTo>
                <a:lnTo>
                  <a:pt x="69323" y="0"/>
                </a:lnTo>
                <a:lnTo>
                  <a:pt x="69323" y="21600"/>
                </a:lnTo>
                <a:lnTo>
                  <a:pt x="0" y="21600"/>
                </a:lnTo>
                <a:close/>
              </a:path>
              <a:path fill="lightenLess" w="69323" h="21600">
                <a:moveTo>
                  <a:pt x="0" y="0"/>
                </a:moveTo>
                <a:lnTo>
                  <a:pt x="69323" y="0"/>
                </a:lnTo>
                <a:lnTo>
                  <a:pt x="67923" y="1400"/>
                </a:lnTo>
                <a:lnTo>
                  <a:pt x="1400" y="1400"/>
                </a:lnTo>
                <a:close/>
              </a:path>
              <a:path fill="darken" w="69323" h="21600">
                <a:moveTo>
                  <a:pt x="69323" y="0"/>
                </a:moveTo>
                <a:lnTo>
                  <a:pt x="69323" y="21600"/>
                </a:lnTo>
                <a:lnTo>
                  <a:pt x="67923" y="20200"/>
                </a:lnTo>
                <a:lnTo>
                  <a:pt x="67923" y="1400"/>
                </a:lnTo>
                <a:close/>
              </a:path>
              <a:path fill="darkenLess" w="69323" h="21600">
                <a:moveTo>
                  <a:pt x="69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23" y="20200"/>
                </a:lnTo>
                <a:close/>
              </a:path>
              <a:path fill="lighten" w="69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返 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F429-B3C1-480F-8921-13DAF4775816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CBCC7-C5C3-4065-A53F-DB1579B4F4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5950080" y="5715000"/>
            <a:ext cx="1671480" cy="520560"/>
          </a:xfrm>
          <a:custGeom>
            <a:avLst/>
            <a:gdLst>
              <a:gd name="textAreaLeft" fmla="*/ 33480 w 1671480"/>
              <a:gd name="textAreaRight" fmla="*/ 1638000 w 167148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69323" h="21600">
                <a:moveTo>
                  <a:pt x="0" y="0"/>
                </a:moveTo>
                <a:lnTo>
                  <a:pt x="69323" y="0"/>
                </a:lnTo>
                <a:lnTo>
                  <a:pt x="69323" y="21600"/>
                </a:lnTo>
                <a:lnTo>
                  <a:pt x="0" y="21600"/>
                </a:lnTo>
                <a:close/>
              </a:path>
              <a:path fill="lightenLess" w="69323" h="21600">
                <a:moveTo>
                  <a:pt x="0" y="0"/>
                </a:moveTo>
                <a:lnTo>
                  <a:pt x="69323" y="0"/>
                </a:lnTo>
                <a:lnTo>
                  <a:pt x="67923" y="1400"/>
                </a:lnTo>
                <a:lnTo>
                  <a:pt x="1400" y="1400"/>
                </a:lnTo>
                <a:close/>
              </a:path>
              <a:path fill="darken" w="69323" h="21600">
                <a:moveTo>
                  <a:pt x="69323" y="0"/>
                </a:moveTo>
                <a:lnTo>
                  <a:pt x="69323" y="21600"/>
                </a:lnTo>
                <a:lnTo>
                  <a:pt x="67923" y="20200"/>
                </a:lnTo>
                <a:lnTo>
                  <a:pt x="67923" y="1400"/>
                </a:lnTo>
                <a:close/>
              </a:path>
              <a:path fill="darkenLess" w="69323" h="21600">
                <a:moveTo>
                  <a:pt x="693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23" y="20200"/>
                </a:lnTo>
                <a:close/>
              </a:path>
              <a:path fill="lighten" w="693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返 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67880" y="225360"/>
            <a:ext cx="114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ebfa"/>
                </a:solidFill>
                <a:latin typeface="Times New Roman"/>
              </a:rPr>
              <a:t>小    结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2920" y="879480"/>
            <a:ext cx="863748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对内存变量的赋值操作可以使用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STORE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命令或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进行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显示内存变量可以使用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LIST MEMORY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DISPLAY MEMORY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命令。前者为不分屏显示，后者为分屏显示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内存变量可以使用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SAVE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命令保存，也可以使用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RELEASE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命令和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CLEAR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命令删除，还可以使用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RESTORE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命令恢复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数组必须先定义后使用，数组元素的赋值操作与内存变量的赋值操作基本相同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表达式按其值的数据类型可以分为四类，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字符型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数值型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日期型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逻辑型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运算符按其运算的结果可以分为五类：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算术运算符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关系运算符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逻辑运算符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字符串运算符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日期运算符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运算符的优先级有高低之分，最高的是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算术运算符、字符串运算符和日期运算符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，其次是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关系运算符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，最低的是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逻辑运算符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7FE2-F979-4E13-B2C7-393086E4106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0C22A-D866-4676-B8AD-A2B0E49F34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00200" y="6858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  VFP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内存变量的基本操作</a:t>
            </a:r>
            <a:r>
              <a:rPr b="1" lang="zh-CN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2692440" y="2489040"/>
            <a:ext cx="4317840" cy="520920"/>
          </a:xfrm>
          <a:custGeom>
            <a:avLst/>
            <a:gdLst>
              <a:gd name="textAreaLeft" fmla="*/ 33480 w 4317840"/>
              <a:gd name="textAreaRight" fmla="*/ 4284360 w 431784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178931" h="21600">
                <a:moveTo>
                  <a:pt x="0" y="0"/>
                </a:moveTo>
                <a:lnTo>
                  <a:pt x="178931" y="0"/>
                </a:lnTo>
                <a:lnTo>
                  <a:pt x="178931" y="21600"/>
                </a:lnTo>
                <a:lnTo>
                  <a:pt x="0" y="21600"/>
                </a:lnTo>
                <a:close/>
              </a:path>
              <a:path fill="lightenLess" w="178931" h="21600">
                <a:moveTo>
                  <a:pt x="0" y="0"/>
                </a:moveTo>
                <a:lnTo>
                  <a:pt x="178931" y="0"/>
                </a:lnTo>
                <a:lnTo>
                  <a:pt x="177531" y="1400"/>
                </a:lnTo>
                <a:lnTo>
                  <a:pt x="1400" y="1400"/>
                </a:lnTo>
                <a:close/>
              </a:path>
              <a:path fill="darken" w="178931" h="21600">
                <a:moveTo>
                  <a:pt x="178931" y="0"/>
                </a:moveTo>
                <a:lnTo>
                  <a:pt x="178931" y="21600"/>
                </a:lnTo>
                <a:lnTo>
                  <a:pt x="177531" y="20200"/>
                </a:lnTo>
                <a:lnTo>
                  <a:pt x="177531" y="1400"/>
                </a:lnTo>
                <a:close/>
              </a:path>
              <a:path fill="darkenLess" w="178931" h="21600">
                <a:moveTo>
                  <a:pt x="178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531" y="20200"/>
                </a:lnTo>
                <a:close/>
              </a:path>
              <a:path fill="lighten" w="178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936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2.1.2  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显示内存变量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2687760" y="3137040"/>
            <a:ext cx="4317840" cy="520560"/>
          </a:xfrm>
          <a:custGeom>
            <a:avLst/>
            <a:gdLst>
              <a:gd name="textAreaLeft" fmla="*/ 33480 w 4317840"/>
              <a:gd name="textAreaRight" fmla="*/ 4284360 w 431784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179055" h="21600">
                <a:moveTo>
                  <a:pt x="0" y="0"/>
                </a:moveTo>
                <a:lnTo>
                  <a:pt x="179055" y="0"/>
                </a:lnTo>
                <a:lnTo>
                  <a:pt x="179055" y="21600"/>
                </a:lnTo>
                <a:lnTo>
                  <a:pt x="0" y="21600"/>
                </a:lnTo>
                <a:close/>
              </a:path>
              <a:path fill="lightenLess" w="179055" h="21600">
                <a:moveTo>
                  <a:pt x="0" y="0"/>
                </a:moveTo>
                <a:lnTo>
                  <a:pt x="179055" y="0"/>
                </a:lnTo>
                <a:lnTo>
                  <a:pt x="177655" y="1400"/>
                </a:lnTo>
                <a:lnTo>
                  <a:pt x="1400" y="1400"/>
                </a:lnTo>
                <a:close/>
              </a:path>
              <a:path fill="darken" w="179055" h="21600">
                <a:moveTo>
                  <a:pt x="179055" y="0"/>
                </a:moveTo>
                <a:lnTo>
                  <a:pt x="179055" y="21600"/>
                </a:lnTo>
                <a:lnTo>
                  <a:pt x="177655" y="20200"/>
                </a:lnTo>
                <a:lnTo>
                  <a:pt x="177655" y="1400"/>
                </a:lnTo>
                <a:close/>
              </a:path>
              <a:path fill="darkenLess" w="179055" h="21600">
                <a:moveTo>
                  <a:pt x="179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655" y="20200"/>
                </a:lnTo>
                <a:close/>
              </a:path>
              <a:path fill="lighten" w="179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936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2.1.3  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保存内存变量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endshow"/>
          </p:cNvPr>
          <p:cNvSpPr/>
          <p:nvPr/>
        </p:nvSpPr>
        <p:spPr>
          <a:xfrm>
            <a:off x="5334120" y="5181480"/>
            <a:ext cx="1671480" cy="520920"/>
          </a:xfrm>
          <a:custGeom>
            <a:avLst/>
            <a:gdLst>
              <a:gd name="textAreaLeft" fmla="*/ 33480 w 1671480"/>
              <a:gd name="textAreaRight" fmla="*/ 1638000 w 167148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69275" h="21600">
                <a:moveTo>
                  <a:pt x="0" y="0"/>
                </a:moveTo>
                <a:lnTo>
                  <a:pt x="69275" y="0"/>
                </a:lnTo>
                <a:lnTo>
                  <a:pt x="69275" y="21600"/>
                </a:lnTo>
                <a:lnTo>
                  <a:pt x="0" y="21600"/>
                </a:lnTo>
                <a:close/>
              </a:path>
              <a:path fill="lightenLess" w="69275" h="21600">
                <a:moveTo>
                  <a:pt x="0" y="0"/>
                </a:moveTo>
                <a:lnTo>
                  <a:pt x="69275" y="0"/>
                </a:lnTo>
                <a:lnTo>
                  <a:pt x="67875" y="1400"/>
                </a:lnTo>
                <a:lnTo>
                  <a:pt x="1400" y="1400"/>
                </a:lnTo>
                <a:close/>
              </a:path>
              <a:path fill="darken" w="69275" h="21600">
                <a:moveTo>
                  <a:pt x="69275" y="0"/>
                </a:moveTo>
                <a:lnTo>
                  <a:pt x="69275" y="21600"/>
                </a:lnTo>
                <a:lnTo>
                  <a:pt x="67875" y="20200"/>
                </a:lnTo>
                <a:lnTo>
                  <a:pt x="67875" y="1400"/>
                </a:lnTo>
                <a:close/>
              </a:path>
              <a:path fill="darkenLess" w="69275" h="21600">
                <a:moveTo>
                  <a:pt x="692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875" y="20200"/>
                </a:lnTo>
                <a:close/>
              </a:path>
              <a:path fill="lighten" w="692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退   出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2666880" y="1828800"/>
            <a:ext cx="4318200" cy="520560"/>
          </a:xfrm>
          <a:custGeom>
            <a:avLst/>
            <a:gdLst>
              <a:gd name="textAreaLeft" fmla="*/ 33480 w 4318200"/>
              <a:gd name="textAreaRight" fmla="*/ 4284720 w 431820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179070" h="21600">
                <a:moveTo>
                  <a:pt x="0" y="0"/>
                </a:moveTo>
                <a:lnTo>
                  <a:pt x="179070" y="0"/>
                </a:lnTo>
                <a:lnTo>
                  <a:pt x="179070" y="21600"/>
                </a:lnTo>
                <a:lnTo>
                  <a:pt x="0" y="21600"/>
                </a:lnTo>
                <a:close/>
              </a:path>
              <a:path fill="lightenLess" w="179070" h="21600">
                <a:moveTo>
                  <a:pt x="0" y="0"/>
                </a:moveTo>
                <a:lnTo>
                  <a:pt x="179070" y="0"/>
                </a:lnTo>
                <a:lnTo>
                  <a:pt x="177670" y="1400"/>
                </a:lnTo>
                <a:lnTo>
                  <a:pt x="1400" y="1400"/>
                </a:lnTo>
                <a:close/>
              </a:path>
              <a:path fill="darken" w="179070" h="21600">
                <a:moveTo>
                  <a:pt x="179070" y="0"/>
                </a:moveTo>
                <a:lnTo>
                  <a:pt x="179070" y="21600"/>
                </a:lnTo>
                <a:lnTo>
                  <a:pt x="177670" y="20200"/>
                </a:lnTo>
                <a:lnTo>
                  <a:pt x="177670" y="1400"/>
                </a:lnTo>
                <a:close/>
              </a:path>
              <a:path fill="darkenLess" w="179070" h="21600">
                <a:moveTo>
                  <a:pt x="179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670" y="20200"/>
                </a:lnTo>
                <a:close/>
              </a:path>
              <a:path fill="lighten" w="179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936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2.1.1  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对内存变量的赋值操作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5" name="">
            <a:hlinkClick r:id="rId4" action="ppaction://hlinksldjump"/>
          </p:cNvPr>
          <p:cNvSpPr/>
          <p:nvPr/>
        </p:nvSpPr>
        <p:spPr>
          <a:xfrm>
            <a:off x="2692440" y="3809880"/>
            <a:ext cx="4317840" cy="520920"/>
          </a:xfrm>
          <a:custGeom>
            <a:avLst/>
            <a:gdLst>
              <a:gd name="textAreaLeft" fmla="*/ 33480 w 4317840"/>
              <a:gd name="textAreaRight" fmla="*/ 4284360 w 431784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178931" h="21600">
                <a:moveTo>
                  <a:pt x="0" y="0"/>
                </a:moveTo>
                <a:lnTo>
                  <a:pt x="178931" y="0"/>
                </a:lnTo>
                <a:lnTo>
                  <a:pt x="178931" y="21600"/>
                </a:lnTo>
                <a:lnTo>
                  <a:pt x="0" y="21600"/>
                </a:lnTo>
                <a:close/>
              </a:path>
              <a:path fill="lightenLess" w="178931" h="21600">
                <a:moveTo>
                  <a:pt x="0" y="0"/>
                </a:moveTo>
                <a:lnTo>
                  <a:pt x="178931" y="0"/>
                </a:lnTo>
                <a:lnTo>
                  <a:pt x="177531" y="1400"/>
                </a:lnTo>
                <a:lnTo>
                  <a:pt x="1400" y="1400"/>
                </a:lnTo>
                <a:close/>
              </a:path>
              <a:path fill="darken" w="178931" h="21600">
                <a:moveTo>
                  <a:pt x="178931" y="0"/>
                </a:moveTo>
                <a:lnTo>
                  <a:pt x="178931" y="21600"/>
                </a:lnTo>
                <a:lnTo>
                  <a:pt x="177531" y="20200"/>
                </a:lnTo>
                <a:lnTo>
                  <a:pt x="177531" y="1400"/>
                </a:lnTo>
                <a:close/>
              </a:path>
              <a:path fill="darkenLess" w="178931" h="21600">
                <a:moveTo>
                  <a:pt x="178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531" y="20200"/>
                </a:lnTo>
                <a:close/>
              </a:path>
              <a:path fill="lighten" w="178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936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2.1.4  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删除内存变量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6" name="">
            <a:hlinkClick r:id="rId5" action="ppaction://hlinksldjump"/>
          </p:cNvPr>
          <p:cNvSpPr/>
          <p:nvPr/>
        </p:nvSpPr>
        <p:spPr>
          <a:xfrm>
            <a:off x="2692440" y="4495680"/>
            <a:ext cx="4317840" cy="520920"/>
          </a:xfrm>
          <a:custGeom>
            <a:avLst/>
            <a:gdLst>
              <a:gd name="textAreaLeft" fmla="*/ 33480 w 4317840"/>
              <a:gd name="textAreaRight" fmla="*/ 4284360 w 431784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178931" h="21600">
                <a:moveTo>
                  <a:pt x="0" y="0"/>
                </a:moveTo>
                <a:lnTo>
                  <a:pt x="178931" y="0"/>
                </a:lnTo>
                <a:lnTo>
                  <a:pt x="178931" y="21600"/>
                </a:lnTo>
                <a:lnTo>
                  <a:pt x="0" y="21600"/>
                </a:lnTo>
                <a:close/>
              </a:path>
              <a:path fill="lightenLess" w="178931" h="21600">
                <a:moveTo>
                  <a:pt x="0" y="0"/>
                </a:moveTo>
                <a:lnTo>
                  <a:pt x="178931" y="0"/>
                </a:lnTo>
                <a:lnTo>
                  <a:pt x="177531" y="1400"/>
                </a:lnTo>
                <a:lnTo>
                  <a:pt x="1400" y="1400"/>
                </a:lnTo>
                <a:close/>
              </a:path>
              <a:path fill="darken" w="178931" h="21600">
                <a:moveTo>
                  <a:pt x="178931" y="0"/>
                </a:moveTo>
                <a:lnTo>
                  <a:pt x="178931" y="21600"/>
                </a:lnTo>
                <a:lnTo>
                  <a:pt x="177531" y="20200"/>
                </a:lnTo>
                <a:lnTo>
                  <a:pt x="177531" y="1400"/>
                </a:lnTo>
                <a:close/>
              </a:path>
              <a:path fill="darkenLess" w="178931" h="21600">
                <a:moveTo>
                  <a:pt x="178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531" y="20200"/>
                </a:lnTo>
                <a:close/>
              </a:path>
              <a:path fill="lighten" w="178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936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2.1.5  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恢复内存变量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">
            <a:hlinkClick r:id="rId6" action="ppaction://hlinksldjump"/>
          </p:cNvPr>
          <p:cNvSpPr/>
          <p:nvPr/>
        </p:nvSpPr>
        <p:spPr>
          <a:xfrm>
            <a:off x="2743200" y="5181480"/>
            <a:ext cx="1671480" cy="520920"/>
          </a:xfrm>
          <a:custGeom>
            <a:avLst/>
            <a:gdLst>
              <a:gd name="textAreaLeft" fmla="*/ 33480 w 1671480"/>
              <a:gd name="textAreaRight" fmla="*/ 1638000 w 167148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69275" h="21600">
                <a:moveTo>
                  <a:pt x="0" y="0"/>
                </a:moveTo>
                <a:lnTo>
                  <a:pt x="69275" y="0"/>
                </a:lnTo>
                <a:lnTo>
                  <a:pt x="69275" y="21600"/>
                </a:lnTo>
                <a:lnTo>
                  <a:pt x="0" y="21600"/>
                </a:lnTo>
                <a:close/>
              </a:path>
              <a:path fill="lightenLess" w="69275" h="21600">
                <a:moveTo>
                  <a:pt x="0" y="0"/>
                </a:moveTo>
                <a:lnTo>
                  <a:pt x="69275" y="0"/>
                </a:lnTo>
                <a:lnTo>
                  <a:pt x="67875" y="1400"/>
                </a:lnTo>
                <a:lnTo>
                  <a:pt x="1400" y="1400"/>
                </a:lnTo>
                <a:close/>
              </a:path>
              <a:path fill="darken" w="69275" h="21600">
                <a:moveTo>
                  <a:pt x="69275" y="0"/>
                </a:moveTo>
                <a:lnTo>
                  <a:pt x="69275" y="21600"/>
                </a:lnTo>
                <a:lnTo>
                  <a:pt x="67875" y="20200"/>
                </a:lnTo>
                <a:lnTo>
                  <a:pt x="67875" y="1400"/>
                </a:lnTo>
                <a:close/>
              </a:path>
              <a:path fill="darkenLess" w="69275" h="21600">
                <a:moveTo>
                  <a:pt x="692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875" y="20200"/>
                </a:lnTo>
                <a:close/>
              </a:path>
              <a:path fill="lighten" w="692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返 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2E21-FB17-4F18-A701-AD9C00C8EF2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5D336-1D9A-47FB-8CD5-6FECCEEE55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1523880"/>
            <a:ext cx="8489880" cy="4572000"/>
          </a:xfrm>
          <a:prstGeom prst="rect">
            <a:avLst/>
          </a:prstGeom>
          <a:gradFill rotWithShape="0">
            <a:gsLst>
              <a:gs pos="0">
                <a:srgbClr val="ebffeb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07931e"/>
            </a:solidFill>
            <a:miter/>
          </a:ln>
          <a:effectLst>
            <a:outerShdw dist="107932" dir="2700000" blurRad="0" rotWithShape="0">
              <a:srgbClr val="33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88040" y="10666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内存变量的赋值操作和其它高级语言一样，必须先定义后使用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40160" y="152280"/>
            <a:ext cx="43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2.1.1   </a:t>
            </a: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对内存变量的赋值操作</a:t>
            </a:r>
            <a:r>
              <a:rPr b="0" lang="zh-CN" sz="2400" spc="-1" strike="noStrike">
                <a:solidFill>
                  <a:srgbClr val="ffebf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79480" y="1600200"/>
            <a:ext cx="45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STORE 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表达式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 TO 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内存变量名表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76320" y="1600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格式一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138744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895480" y="1980720"/>
            <a:ext cx="0" cy="381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029200" y="1980720"/>
            <a:ext cx="0" cy="381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55200" y="22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命令动词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88920" y="22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去向子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962520" y="1980720"/>
            <a:ext cx="0" cy="762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553080" y="1980720"/>
            <a:ext cx="0" cy="762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92200" y="26668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包含值的表达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2666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接收值的变量名表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3124080"/>
            <a:ext cx="74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STORE 0 TO AA,BB,CC    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将数值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赋给变量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AA,BB,CC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STORE "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李磊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" TO NAME  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将字符串“李磊”赋给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2120" y="312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例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5520" y="3124080"/>
            <a:ext cx="86976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7840" y="4038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格式二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4038480"/>
            <a:ext cx="138744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13080" y="39625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内存变量名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=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表达式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86200" y="4343400"/>
            <a:ext cx="0" cy="380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39920" y="46483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接收值的变量名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029200" y="4266720"/>
            <a:ext cx="0" cy="762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7480" y="4952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赋值操作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57600" y="46483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包含值的表达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095880" y="4343400"/>
            <a:ext cx="0" cy="380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440" y="535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例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5389560"/>
            <a:ext cx="990360" cy="4017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01600" y="541008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A=.T.   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将逻辑真值赋给变量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6172200"/>
            <a:ext cx="1671840" cy="520560"/>
          </a:xfrm>
          <a:custGeom>
            <a:avLst/>
            <a:gdLst>
              <a:gd name="textAreaLeft" fmla="*/ 33480 w 1671840"/>
              <a:gd name="textAreaRight" fmla="*/ 1638360 w 167184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69338" h="21600">
                <a:moveTo>
                  <a:pt x="0" y="0"/>
                </a:moveTo>
                <a:lnTo>
                  <a:pt x="69338" y="0"/>
                </a:lnTo>
                <a:lnTo>
                  <a:pt x="69338" y="21600"/>
                </a:lnTo>
                <a:lnTo>
                  <a:pt x="0" y="21600"/>
                </a:lnTo>
                <a:close/>
              </a:path>
              <a:path fill="lightenLess" w="69338" h="21600">
                <a:moveTo>
                  <a:pt x="0" y="0"/>
                </a:moveTo>
                <a:lnTo>
                  <a:pt x="69338" y="0"/>
                </a:lnTo>
                <a:lnTo>
                  <a:pt x="67938" y="1400"/>
                </a:lnTo>
                <a:lnTo>
                  <a:pt x="1400" y="1400"/>
                </a:lnTo>
                <a:close/>
              </a:path>
              <a:path fill="darken" w="69338" h="21600">
                <a:moveTo>
                  <a:pt x="69338" y="0"/>
                </a:moveTo>
                <a:lnTo>
                  <a:pt x="69338" y="21600"/>
                </a:lnTo>
                <a:lnTo>
                  <a:pt x="67938" y="20200"/>
                </a:lnTo>
                <a:lnTo>
                  <a:pt x="67938" y="1400"/>
                </a:lnTo>
                <a:close/>
              </a:path>
              <a:path fill="darkenLess" w="69338" h="21600">
                <a:moveTo>
                  <a:pt x="69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38" y="20200"/>
                </a:lnTo>
                <a:close/>
              </a:path>
              <a:path fill="lighten" w="69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返 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C81E-3981-4882-869B-0B2759A75D8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2690E-C76C-4C02-BF05-5BA92B3E1E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795240"/>
            <a:ext cx="8611920" cy="1230480"/>
          </a:xfrm>
          <a:prstGeom prst="rect">
            <a:avLst/>
          </a:prstGeom>
          <a:solidFill>
            <a:srgbClr val="ffffff"/>
          </a:solidFill>
          <a:ln w="38160">
            <a:solidFill>
              <a:srgbClr val="dac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68280" y="152280"/>
            <a:ext cx="33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2.1.2   </a:t>
            </a: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显示内存变量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57200" y="1066680"/>
            <a:ext cx="1387440" cy="533520"/>
            <a:chOff x="457200" y="1066680"/>
            <a:chExt cx="1387440" cy="533520"/>
          </a:xfrm>
        </p:grpSpPr>
        <p:sp>
          <p:nvSpPr>
            <p:cNvPr id="131" name=""/>
            <p:cNvSpPr/>
            <p:nvPr/>
          </p:nvSpPr>
          <p:spPr>
            <a:xfrm>
              <a:off x="457200" y="1066680"/>
              <a:ext cx="138744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76320" y="10666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格式一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955880" y="838080"/>
            <a:ext cx="642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LIST MEMORY [LIKE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内存变量名框架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] [TO PRINTER[PROMPT]/TO FILE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文件名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] [NOCONSOLE]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0640" y="205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功能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55920" y="2057400"/>
            <a:ext cx="73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显示当前在内存中定义的自定义内存变量和系统内存变量，以及自定义菜单和自定义窗口的有关信息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2680" y="2819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参数描述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06080" y="28195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LIST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：为命令动词，表示此命令用以显示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3216240"/>
            <a:ext cx="73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MEMORY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为子句，与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LIST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一起构成复合命令，表示此命令用以显示内存变量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321624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358128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5520" y="4000680"/>
            <a:ext cx="73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LIKE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内存变量名框架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可以通过它有选择地显示内存变量和数组信息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4343400"/>
            <a:ext cx="3429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4800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TO PRINTER[PROMPT]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将显示结果在打印机上输出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14600" y="5146560"/>
            <a:ext cx="75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TO FILE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文件名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将显示结果输出到指定的文件中，该文件为文本文件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NOCONSOLE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不在屏幕上显示 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7D08-BE54-425F-8080-78042BA5050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2B811-B599-4B8F-BB97-A3376E04C7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217440"/>
            <a:ext cx="8611920" cy="1230480"/>
          </a:xfrm>
          <a:prstGeom prst="rect">
            <a:avLst/>
          </a:prstGeom>
          <a:solidFill>
            <a:srgbClr val="ffffff"/>
          </a:solidFill>
          <a:ln w="38160">
            <a:solidFill>
              <a:srgbClr val="dac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57200" y="304920"/>
            <a:ext cx="1387440" cy="533160"/>
            <a:chOff x="457200" y="304920"/>
            <a:chExt cx="1387440" cy="533160"/>
          </a:xfrm>
        </p:grpSpPr>
        <p:sp>
          <p:nvSpPr>
            <p:cNvPr id="148" name=""/>
            <p:cNvSpPr/>
            <p:nvPr/>
          </p:nvSpPr>
          <p:spPr>
            <a:xfrm>
              <a:off x="457200" y="304920"/>
              <a:ext cx="1387440" cy="533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4280" y="304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格式二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844640" y="228600"/>
            <a:ext cx="70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DISPLAY MEMORY [LIKE 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内存变量框架名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] [TO PRINTER[PROMPT]/TO FILE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文件名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] [NOCONSOLE]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60640" y="1523880"/>
            <a:ext cx="8656200" cy="459720"/>
            <a:chOff x="260640" y="1523880"/>
            <a:chExt cx="8656200" cy="459720"/>
          </a:xfrm>
        </p:grpSpPr>
        <p:sp>
          <p:nvSpPr>
            <p:cNvPr id="152" name=""/>
            <p:cNvSpPr/>
            <p:nvPr/>
          </p:nvSpPr>
          <p:spPr>
            <a:xfrm>
              <a:off x="260640" y="1523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功能：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55920" y="1523880"/>
              <a:ext cx="736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</a:rPr>
                <a:t>显示当前在内存中定义的自定义内存变量和系统内存变量，以及自定义菜单和自定义窗口的有关信息。 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8400" y="2286000"/>
            <a:ext cx="884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参数描述：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DISPLAY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命令动词，表示分屏显示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               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其它参数与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LIST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相同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3108240"/>
            <a:ext cx="861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LIST MEMORY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DISPLAY MEMORY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的区别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LIST MEMORY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显示内存变量时不暂停，在屏幕上只保留最后一屏内存变量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DISPLAY MEMORY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在显示内存变量时，若内存变量数超过一屏，则在每显示一屏后暂停，按任意键后继续显示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9E76-1969-446B-9083-C0F72AC884F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DEFE9-3822-4BDF-9458-CD2F9D6AA8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0880" y="325440"/>
            <a:ext cx="8458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LIST MEMORY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DISPLAY MEMORY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命令示例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在命令窗口中执行下条命令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LIST MEMOR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屏幕显示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57" name="bmp60A2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6172200" cy="4895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80880" y="18288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因为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LIST MEMORY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命令在不带任何参数时将显示所有内存变量（包括系统内存变量），本例需要多屏显示，因而在屏幕上只保留最后一屏的内容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9AC2-3362-4187-94F9-A84C6C814F4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C5213-08D5-4E8E-A13D-16608BC219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62120" y="24912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25440"/>
            <a:ext cx="8458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LIST MEMORY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DISPLAY MEMORY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命令示例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在命令窗口中执行下条命令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DISPLAY MEMOR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屏幕显示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61" name="bmp2052" descr=""/>
          <p:cNvPicPr/>
          <p:nvPr/>
        </p:nvPicPr>
        <p:blipFill>
          <a:blip r:embed="rId1"/>
          <a:stretch/>
        </p:blipFill>
        <p:spPr>
          <a:xfrm>
            <a:off x="3352680" y="1201680"/>
            <a:ext cx="5481720" cy="4894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80880" y="21844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因为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DISPLAY MEMORY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命令在不带任何参数时将分屏显示所有内存变量（包括系统内存变量）。此例中需要多屏显示，因而在屏幕会一屏一屏的显示内存变量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3440" y="5334120"/>
            <a:ext cx="6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右图是第一屏的内容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6172200"/>
            <a:ext cx="1671840" cy="520560"/>
          </a:xfrm>
          <a:custGeom>
            <a:avLst/>
            <a:gdLst>
              <a:gd name="textAreaLeft" fmla="*/ 33480 w 1671840"/>
              <a:gd name="textAreaRight" fmla="*/ 1638360 w 167184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69338" h="21600">
                <a:moveTo>
                  <a:pt x="0" y="0"/>
                </a:moveTo>
                <a:lnTo>
                  <a:pt x="69338" y="0"/>
                </a:lnTo>
                <a:lnTo>
                  <a:pt x="69338" y="21600"/>
                </a:lnTo>
                <a:lnTo>
                  <a:pt x="0" y="21600"/>
                </a:lnTo>
                <a:close/>
              </a:path>
              <a:path fill="lightenLess" w="69338" h="21600">
                <a:moveTo>
                  <a:pt x="0" y="0"/>
                </a:moveTo>
                <a:lnTo>
                  <a:pt x="69338" y="0"/>
                </a:lnTo>
                <a:lnTo>
                  <a:pt x="67938" y="1400"/>
                </a:lnTo>
                <a:lnTo>
                  <a:pt x="1400" y="1400"/>
                </a:lnTo>
                <a:close/>
              </a:path>
              <a:path fill="darken" w="69338" h="21600">
                <a:moveTo>
                  <a:pt x="69338" y="0"/>
                </a:moveTo>
                <a:lnTo>
                  <a:pt x="69338" y="21600"/>
                </a:lnTo>
                <a:lnTo>
                  <a:pt x="67938" y="20200"/>
                </a:lnTo>
                <a:lnTo>
                  <a:pt x="67938" y="1400"/>
                </a:lnTo>
                <a:close/>
              </a:path>
              <a:path fill="darkenLess" w="69338" h="21600">
                <a:moveTo>
                  <a:pt x="69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38" y="20200"/>
                </a:lnTo>
                <a:close/>
              </a:path>
              <a:path fill="lighten" w="69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947e"/>
          </a:solidFill>
          <a:ln w="3240">
            <a:solidFill>
              <a:srgbClr val="463634"/>
            </a:solidFill>
            <a:miter/>
          </a:ln>
          <a:effectLst>
            <a:outerShdw dist="17819" dir="2700000" blurRad="0" rotWithShape="0">
              <a:srgbClr val="292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a947e"/>
                </a:solidFill>
                <a:latin typeface="Times New Roman"/>
              </a:rPr>
              <a:t>返 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E30C-90E0-4F56-A249-154EBD553BF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58DE1-C880-4BF6-90CD-93041BCF83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68280" y="152280"/>
            <a:ext cx="33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2.1.3   </a:t>
            </a: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保存内存变量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795240"/>
            <a:ext cx="8611920" cy="149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dac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836640"/>
            <a:ext cx="64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SAVE TO &lt;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内存变量文件名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&gt;/ &lt;MEMO 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备注字段名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&gt;[ALL LIKE/ EXCEPT &lt;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内存变量名框架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&gt;]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200" y="1143000"/>
            <a:ext cx="7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命令格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0560" y="1143000"/>
            <a:ext cx="144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11430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1600200"/>
            <a:ext cx="143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11430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6200" y="2403360"/>
            <a:ext cx="84628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功能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它将内存中的部分或全部内存变量以文件的形式存入磁盘，文件名由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内存变量文件名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指定，文件扩展名的缺省值为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.MEM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参数描述：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SAVE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命令动词，表示保存内存变量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内存变量文件名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指定保存内存变量和数组的内存变量文件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lt;MEMO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备注字段名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指定保存内存变量和数组的备注字段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ALL LIKE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内存变量名框架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]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将符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内存变量名框架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的那些变量存入指定的文件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ALL EXCEPT &lt;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内存变量名框架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&gt;]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将不符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内存变量名框架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的那些变量存入指定的文件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C7FC-F05B-49DD-B97A-2FF755B76F4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49064-D5D9-462A-B1E7-05131F0270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9T03:51:16Z</dcterms:created>
  <dc:creator>黎能武</dc:creator>
  <dc:description/>
  <dc:language>en-US</dc:language>
  <cp:lastModifiedBy>lsj</cp:lastModifiedBy>
  <dcterms:modified xsi:type="dcterms:W3CDTF">2001-09-25T13:37:43Z</dcterms:modified>
  <cp:revision>52</cp:revision>
  <dc:subject/>
  <dc:title>Visual FoxPro 6.0程序设计演示文稿</dc:title>
</cp:coreProperties>
</file>